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2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39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3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</p:sldMasterIdLst>
  <p:notesMasterIdLst>
    <p:notesMasterId r:id="rId158"/>
  </p:notesMasterIdLst>
  <p:sldIdLst>
    <p:sldId id="256" r:id="rId159"/>
    <p:sldId id="257" r:id="rId160"/>
    <p:sldId id="258" r:id="rId161"/>
    <p:sldId id="259" r:id="rId162"/>
    <p:sldId id="260" r:id="rId163"/>
    <p:sldId id="261" r:id="rId164"/>
    <p:sldId id="262" r:id="rId165"/>
    <p:sldId id="263" r:id="rId166"/>
    <p:sldId id="264" r:id="rId167"/>
    <p:sldId id="265" r:id="rId16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notesMaster" Target="notesMasters/notesMaster1.xml"/><Relationship Id="rId159" Type="http://schemas.openxmlformats.org/officeDocument/2006/relationships/slide" Target="slides/slide1.xml"/><Relationship Id="rId160" Type="http://schemas.openxmlformats.org/officeDocument/2006/relationships/slide" Target="slides/slide2.xml"/><Relationship Id="rId161" Type="http://schemas.openxmlformats.org/officeDocument/2006/relationships/slide" Target="slides/slide3.xml"/><Relationship Id="rId162" Type="http://schemas.openxmlformats.org/officeDocument/2006/relationships/slide" Target="slides/slide4.xml"/><Relationship Id="rId163" Type="http://schemas.openxmlformats.org/officeDocument/2006/relationships/slide" Target="slides/slide5.xml"/><Relationship Id="rId164" Type="http://schemas.openxmlformats.org/officeDocument/2006/relationships/slide" Target="slides/slide6.xml"/><Relationship Id="rId165" Type="http://schemas.openxmlformats.org/officeDocument/2006/relationships/slide" Target="slides/slide7.xml"/><Relationship Id="rId166" Type="http://schemas.openxmlformats.org/officeDocument/2006/relationships/slide" Target="slides/slide8.xml"/><Relationship Id="rId167" Type="http://schemas.openxmlformats.org/officeDocument/2006/relationships/slide" Target="slides/slide9.xml"/><Relationship Id="rId168" Type="http://schemas.openxmlformats.org/officeDocument/2006/relationships/slide" Target="slides/slide10.xml"/><Relationship Id="rId1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5" name="AutoShape 1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6" name="AutoShape 2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7" name="Text Box 3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dt" idx="169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Text Box 7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 type="sldNum" idx="170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DAD467-389A-403A-BB43-B32071FBCAB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A92538-5A86-4E54-A6EE-40E2F525B11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81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22E791-5BED-4C6F-9A1F-C6B79DC904E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6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782E3D-DF29-4F83-B08A-F3FC03F300F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BC891B-B4AD-44C5-BC4A-DFFC9187D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8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35CC6C-EABC-4D42-A115-2D6AA0A29F6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9D3631-5D49-4956-BD5B-9EBC68311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8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1CF5AE-B3D6-45B7-A5AF-278000EF743A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F3C947-3170-40ED-B3E9-D68F2E058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12D313-B031-4A32-B7CD-86F29CCB622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DB0A59-A3FE-4AA6-BD3B-75D431FA0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9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6967F5-7F3B-4EF4-AED3-82547B636E4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1AD69F-26F8-4C79-9396-E913D7354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729A9A-3C96-418F-AD05-6176F3B8894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411FB5-2D73-40BB-951C-24A9A1438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E82426-E9AC-42CD-B974-820D8BABE77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37C8C8-9EED-4255-B6D4-EDBD85085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D18F57-16F4-4536-B90B-1224E83F3BA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802757-FCEA-4325-AABE-39A42BE5D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ECCB-2F33-4CCD-B55B-E775A50C6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670C-D485-47D0-B55A-3D3CE4C8B8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F7ED-4558-4486-A273-C37786D1BE7F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8A8E57C-D6CD-4CBA-8A6C-DDBB23CE14E9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86417F8-AFB9-4BD3-BEF5-6E56F31038D8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42133B4-F77D-405C-A5DD-C3BE7316249E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1D9DF70-35EA-4B3A-B014-71EF31DB59DB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B78716A-4F29-45CF-9E8C-C4F0AC0FA046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A877C57-C411-4778-9172-C58E4A6C9264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75896F0-8D36-4372-B352-8077A40F7D4D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8BE5CDF-4B99-4353-B439-6D197642B94D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8D9B38F-9862-4AE9-B4CF-66907FEE05CD}" type="slidenum">
              <a:t>&lt;#&gt;</a:t>
            </a:fld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F970362-C194-41BB-9239-23CD84319F7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7C0E-4611-49F1-9A32-14D607C5CFD2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B514414-F7D1-4E78-8AA6-1CFB288ABA47}" type="slidenum">
              <a:t>&lt;#&gt;</a:t>
            </a:fld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BBC213D-08EF-4679-A341-81C1E81BF33F}" type="slidenum">
              <a:t>&lt;#&gt;</a:t>
            </a:fld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ED7857D-BE7E-41F3-95D1-0B38A52483C1}" type="slidenum">
              <a:t>&lt;#&gt;</a:t>
            </a:fld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018DB76-7AB0-4FC1-9154-51BACD1C0595}" type="slidenum">
              <a:t>&lt;#&gt;</a:t>
            </a:fld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AA71807-1348-447A-BB5E-B1888790E6B0}" type="slidenum">
              <a:t>&lt;#&gt;</a:t>
            </a:fld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DC94409-34A6-4F94-B87E-9A9FCA538EE0}" type="slidenum">
              <a:t>&lt;#&gt;</a:t>
            </a:fld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A902964-636B-4743-BC9E-51E44AFD47A9}" type="slidenum">
              <a:t>&lt;#&gt;</a:t>
            </a:fld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9D526BA-E895-4104-9277-64BC8B094198}" type="slidenum">
              <a:t>&lt;#&gt;</a:t>
            </a:fld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A2585D7-543B-478A-98CA-381B783916D1}" type="slidenum">
              <a:t>&lt;#&gt;</a:t>
            </a:fld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50A5C36-AF5D-4F29-B0AC-84DF3A39F6F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D501-19F7-4740-AEC6-52AD38E6C241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11381DC-440C-4475-986A-D65FB2C789FF}" type="slidenum">
              <a:t>&lt;#&gt;</a:t>
            </a:fld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EEBE88-34D0-420F-AC02-3FE0E834F0C0}" type="slidenum">
              <a:t>&lt;#&gt;</a:t>
            </a:fld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C88179-FCCF-4295-8D79-65DBB1A7A69C}" type="slidenum">
              <a:t>&lt;#&gt;</a:t>
            </a:fld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9CB108-9786-4133-ACFF-F733A6FD5E8F}" type="slidenum">
              <a:t>&lt;#&gt;</a:t>
            </a:fld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76D0C1-E8BC-4E2D-9DCB-8840715056D5}" type="slidenum">
              <a:t>&lt;#&gt;</a:t>
            </a:fld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789A68-E0E4-4153-B53F-4A83BA97F3A1}" type="slidenum">
              <a:t>&lt;#&gt;</a:t>
            </a:fld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A99D8E-B3AC-47F6-BEB6-5E2C1988DE07}" type="slidenum">
              <a:t>&lt;#&gt;</a:t>
            </a:fld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E9EAB5-2359-4CE4-BA78-14B8EAF05555}" type="slidenum">
              <a:t>&lt;#&gt;</a:t>
            </a:fld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E539DC-355A-4736-BC26-18D3DE2FF74B}" type="slidenum">
              <a:t>&lt;#&gt;</a:t>
            </a:fld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55F475-393C-4D24-8BF5-E1A3D0CAE96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8A9B-9CA4-4398-8639-AEE85052D473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DB81E6-F398-4D5F-99DF-4BC4E5DAD2D4}" type="slidenum">
              <a:t>&lt;#&gt;</a:t>
            </a:fld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F933EF-A569-407B-84A7-97657660858C}" type="slidenum">
              <a:t>&lt;#&gt;</a:t>
            </a:fld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89D859-D530-4123-9DAE-8877824244B4}" type="slidenum">
              <a:t>&lt;#&gt;</a:t>
            </a:fld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53196FE-4F10-4048-B9D5-E81FE277B73E}" type="slidenum">
              <a:t>&lt;#&gt;</a:t>
            </a:fld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9FEAC3B-8FB3-4452-A40C-B2A1708C3206}" type="slidenum">
              <a:t>&lt;#&gt;</a:t>
            </a:fld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202A1FA-727E-4C3D-A939-ADBB21EC65A1}" type="slidenum">
              <a:t>&lt;#&gt;</a:t>
            </a:fld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374491B-CCC9-4B6E-A1C1-FF7BE1A7053B}" type="slidenum">
              <a:t>&lt;#&gt;</a:t>
            </a:fld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691FCD4-4326-4E7B-AA4A-4CA7C72845F5}" type="slidenum">
              <a:t>&lt;#&gt;</a:t>
            </a:fld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160C6D5-469A-490A-86E6-CC7C5EF3ABBE}" type="slidenum">
              <a:t>&lt;#&gt;</a:t>
            </a:fld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8C99E23-BF11-47EF-B0C8-60E7664F8CD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C487C-5158-4C95-9FF0-3ECD3DED35A0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3600032-277E-4ABD-A959-0B86802D67E8}" type="slidenum">
              <a:t>&lt;#&gt;</a:t>
            </a:fld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18770DA-2E42-4856-B29E-59BE94350DAA}" type="slidenum">
              <a:t>&lt;#&gt;</a:t>
            </a:fld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A81ABE2-B033-4BB4-B955-D93E1EB86165}" type="slidenum">
              <a:t>&lt;#&gt;</a:t>
            </a:fld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705AE4C-94FB-4210-97C4-8827E46A4758}" type="slidenum">
              <a:t>&lt;#&gt;</a:t>
            </a:fld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3D17B38-B4B9-46F9-8537-77D7094380B2}" type="slidenum">
              <a:t>&lt;#&gt;</a:t>
            </a:fld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D276D38-1D23-488B-9EF1-3F4D128E2A32}" type="slidenum">
              <a:t>&lt;#&gt;</a:t>
            </a:fld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A80611B-D4EC-4223-B9CC-09DF4A73C300}" type="slidenum">
              <a:t>&lt;#&gt;</a:t>
            </a:fld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1508B64-2BC7-495A-855D-8BC5C29572B4}" type="slidenum">
              <a:t>&lt;#&gt;</a:t>
            </a:fld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E4851DE-FE7F-4AC3-AA06-08A125E06CFA}" type="slidenum">
              <a:t>&lt;#&gt;</a:t>
            </a:fld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FA3E9C6-1EFD-479E-8BEA-14373FEB2CA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FD21-3A8D-4FC8-AAEC-A3205B05D1F6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2E6C7E5-D8E4-4B68-99C3-5C239E890B08}" type="slidenum">
              <a:t>&lt;#&gt;</a:t>
            </a:fld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ECF2C66-F6A3-4E9C-BF99-8C77B3DA10C3}" type="slidenum">
              <a:t>&lt;#&gt;</a:t>
            </a:fld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86F7141-A077-465E-9961-E17C6BE4B915}" type="slidenum">
              <a:t>&lt;#&gt;</a:t>
            </a:fld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7BD9267-93A6-4F4E-859E-F82E5F749F40}" type="slidenum">
              <a:t>&lt;#&gt;</a:t>
            </a:fld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76BE402-8909-4DFC-A5BC-7F1C978BAFB8}" type="slidenum">
              <a:t>&lt;#&gt;</a:t>
            </a:fld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1FF70EB-4B4A-4821-B2A8-E21F146CC3E5}" type="slidenum">
              <a:t>&lt;#&gt;</a:t>
            </a:fld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88DE501-D886-4479-ACD1-50330CACB526}" type="slidenum">
              <a:t>&lt;#&gt;</a:t>
            </a:fld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FD627A-CBEF-40E3-86E4-AD0E242406E0}" type="slidenum">
              <a:t>&lt;#&gt;</a:t>
            </a:fld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F362E2-2F70-46D4-A864-F20D7002B601}" type="slidenum">
              <a:t>&lt;#&gt;</a:t>
            </a:fld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8699C6-4741-4E1D-A652-358DAB5F606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818E-F468-48CE-8880-C6E7E30B8B57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2C2378-2131-4520-BA80-1E8BE845F541}" type="slidenum">
              <a:t>&lt;#&gt;</a:t>
            </a:fld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B6B893-A10F-4D5C-8B0A-458B2B6CBF77}" type="slidenum">
              <a:t>&lt;#&gt;</a:t>
            </a:fld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4A2256-9E8E-4C13-84B2-15F1690BD234}" type="slidenum">
              <a:t>&lt;#&gt;</a:t>
            </a:fld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E619FD-FD5F-4F2F-889C-A56AD162A46E}" type="slidenum">
              <a:t>&lt;#&gt;</a:t>
            </a:fld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97F3A4-1F63-4218-BD65-F81E21385652}" type="slidenum">
              <a:t>&lt;#&gt;</a:t>
            </a:fld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E5161B-E617-4349-8CD4-01E289A7C794}" type="slidenum">
              <a:t>&lt;#&gt;</a:t>
            </a:fld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2FF04C-D126-4B9C-8707-37C5A8F4C7BC}" type="slidenum">
              <a:t>&lt;#&gt;</a:t>
            </a:fld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3C6269-7C70-4FBF-91DF-E01CE548A4DC}" type="slidenum">
              <a:t>&lt;#&gt;</a:t>
            </a:fld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84E637-D178-4D6E-AAB9-40DC83D412FD}" type="slidenum">
              <a:t>&lt;#&gt;</a:t>
            </a:fld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63DD313-E905-4940-A44E-06896F06A20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212C-5358-4464-86B3-825E677A354B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A9F1C4D-79F0-4022-A6AF-CF4C495ACCC9}" type="slidenum">
              <a:t>&lt;#&gt;</a:t>
            </a:fld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01699B9-A121-4150-9A10-37CDE8465176}" type="slidenum">
              <a:t>&lt;#&gt;</a:t>
            </a:fld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CFE144C-6AB6-4D2A-96C0-AFDA336DED41}" type="slidenum">
              <a:t>&lt;#&gt;</a:t>
            </a:fld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2405569-ACA4-438F-A230-CB0A840B0D5D}" type="slidenum">
              <a:t>&lt;#&gt;</a:t>
            </a:fld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B0D1C50-B031-47FB-AD01-DDB2DDD08E1F}" type="slidenum">
              <a:t>&lt;#&gt;</a:t>
            </a:fld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81B00FA-03D7-44B9-9494-0CC85F2EDF76}" type="slidenum">
              <a:t>&lt;#&gt;</a:t>
            </a:fld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C710052-8F4C-4FEF-9776-AAF5133C3439}" type="slidenum">
              <a:t>&lt;#&gt;</a:t>
            </a:fld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344A7C3-B1DE-4327-BB88-93162C8EF3EF}" type="slidenum">
              <a:t>&lt;#&gt;</a:t>
            </a:fld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C9A4BDB-6B29-4C49-8CEF-471450EE7BEC}" type="slidenum">
              <a:t>&lt;#&gt;</a:t>
            </a:fld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3399073-152B-4400-95CF-559EC09C99B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6893-5706-4630-B402-72CE746F2D5E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90E0AE3-EBAC-4BBD-8218-8A126FA4D1F4}" type="slidenum">
              <a:t>&lt;#&gt;</a:t>
            </a:fld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E0750E5-B733-4BBA-889B-25AA5549A365}" type="slidenum">
              <a:t>&lt;#&gt;</a:t>
            </a:fld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8DE9A45-483C-44F7-AF71-35FF708B2009}" type="slidenum">
              <a:t>&lt;#&gt;</a:t>
            </a:fld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FF9C85C-3E94-4261-9C49-D5F5BAB44B32}" type="slidenum">
              <a:t>&lt;#&gt;</a:t>
            </a:fld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E3221CA-C936-4FC3-897F-4916CC2BF96F}" type="slidenum">
              <a:t>&lt;#&gt;</a:t>
            </a:fld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D8E33BC-4427-4248-8155-E84B1FDAFAB1}" type="slidenum">
              <a:t>&lt;#&gt;</a:t>
            </a:fld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D29DA64-D012-4ABF-9FF3-B30AC37590C5}" type="slidenum">
              <a:t>&lt;#&gt;</a:t>
            </a:fld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E0F9849-C24F-46F1-B922-2C7E5F473F58}" type="slidenum">
              <a:t>&lt;#&gt;</a:t>
            </a:fld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74BEDF7-68AB-409E-A54A-C817ADE24381}" type="slidenum">
              <a:t>&lt;#&gt;</a:t>
            </a:fld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3521863-5572-4319-A80B-699E580B93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231B4-1B12-479E-ADFC-1EB92CDF7C6D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B204C53-8212-4967-AE0D-A55D9B277D0D}" type="slidenum">
              <a:t>&lt;#&gt;</a:t>
            </a:fld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A351D9D-7170-4E12-A2E6-C2C59F51ED09}" type="slidenum">
              <a:t>&lt;#&gt;</a:t>
            </a:fld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F384806-A100-4E97-ADEF-07708D2315F8}" type="slidenum">
              <a:t>&lt;#&gt;</a:t>
            </a:fld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308CB7-1B09-40DC-91F7-852F58A6011F}" type="slidenum">
              <a:t>&lt;#&gt;</a:t>
            </a:fld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B8903F-7965-473E-94C6-F0BFC7094B7A}" type="slidenum">
              <a:t>&lt;#&gt;</a:t>
            </a:fld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2EC919-6829-4057-B386-6DCE6B87F53F}" type="slidenum">
              <a:t>&lt;#&gt;</a:t>
            </a:fld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DC5702-A226-4E24-92B1-F66C4C356151}" type="slidenum">
              <a:t>&lt;#&gt;</a:t>
            </a:fld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E0978D-DCFC-4E5D-90E2-D8F816A612E5}" type="slidenum">
              <a:t>&lt;#&gt;</a:t>
            </a:fld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600916-92C2-4D1E-BF3A-898359C59CFA}" type="slidenum">
              <a:t>&lt;#&gt;</a:t>
            </a:fld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A09532-680D-42B2-A627-53F85A4C1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91C2-0EC0-44A8-9D07-35C55C256F0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A3757-370C-4DE2-AEEF-3526AF49F4A5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5FCB25-0833-4142-85A3-1C9CDE4F141A}" type="slidenum">
              <a:t>&lt;#&gt;</a:t>
            </a:fld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EBD460-8C26-4C51-8D3B-AEB736F6DFD1}" type="slidenum">
              <a:t>&lt;#&gt;</a:t>
            </a:fld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812E9F-778E-4F88-B29C-1BA83D58FD82}" type="slidenum">
              <a:t>&lt;#&gt;</a:t>
            </a:fld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3A8DBB-24AE-4C33-9804-EBC8E93DF76C}" type="slidenum">
              <a:t>&lt;#&gt;</a:t>
            </a:fld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8CC907-E4F8-4EFE-9C35-7EC295FE79B4}" type="slidenum">
              <a:t>&lt;#&gt;</a:t>
            </a:fld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A7A69B6-A5DE-4A4F-BEDF-CC56111114EB}" type="slidenum">
              <a:t>&lt;#&gt;</a:t>
            </a:fld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A0A25F1-BD62-4372-844A-873E9FDCFD3E}" type="slidenum">
              <a:t>&lt;#&gt;</a:t>
            </a:fld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8CBD608-86DB-4FD6-815A-21B9B6454D18}" type="slidenum">
              <a:t>&lt;#&gt;</a:t>
            </a:fld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7E186F9-04A2-4EFC-B779-11B2BB621FE0}" type="slidenum">
              <a:t>&lt;#&gt;</a:t>
            </a:fld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D8AC8F6-6759-4D40-B3DC-20EBAAC97A1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1A553-E464-4EFC-AD24-B81819E59D43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EC5B2F2-96B6-4F31-B2B2-3327044C61C5}" type="slidenum">
              <a:t>&lt;#&gt;</a:t>
            </a:fld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6837A3B-3613-4209-ADEB-727439BECC71}" type="slidenum">
              <a:t>&lt;#&gt;</a:t>
            </a:fld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880661F-C10B-4044-8988-C7B66DD1CDCD}" type="slidenum">
              <a:t>&lt;#&gt;</a:t>
            </a:fld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5D11C5E-1B23-440F-940C-06BE25F9B950}" type="slidenum">
              <a:t>&lt;#&gt;</a:t>
            </a:fld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212CE3A-AF15-4C06-9B20-7E99026A7675}" type="slidenum">
              <a:t>&lt;#&gt;</a:t>
            </a:fld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887382A-D642-40DC-BBC5-5B73C32935BC}" type="slidenum">
              <a:t>&lt;#&gt;</a:t>
            </a:fld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570C708-5540-4D58-95E3-7F4019F69E24}" type="slidenum">
              <a:t>&lt;#&gt;</a:t>
            </a:fld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362D99D-E5A7-4F6B-B9D2-2153C963F967}" type="slidenum">
              <a:t>&lt;#&gt;</a:t>
            </a:fld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5DCD40F-18DB-4A42-A936-0E123B50587E}" type="slidenum">
              <a:t>&lt;#&gt;</a:t>
            </a:fld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967CB4C-7129-4250-B195-49EBD78BED2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E2189-AB34-4A3D-B857-07D431A29FBD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CA38229-7AFF-40B2-8C19-DD4C6CBD60EA}" type="slidenum">
              <a:t>&lt;#&gt;</a:t>
            </a:fld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B3DFD78-49E9-4C5C-8768-5D96A058C9C4}" type="slidenum">
              <a:t>&lt;#&gt;</a:t>
            </a:fld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726E801-952E-4C45-B29D-D2E4D47AEF94}" type="slidenum">
              <a:t>&lt;#&gt;</a:t>
            </a:fld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4A57B70-28B2-442A-97DF-30687ED0EC77}" type="slidenum">
              <a:t>&lt;#&gt;</a:t>
            </a:fld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3353078-BF34-4E03-97F6-329624B9D046}" type="slidenum">
              <a:t>&lt;#&gt;</a:t>
            </a:fld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01FA4C5-8595-4CE3-8EBE-EF75B4BF69CE}" type="slidenum">
              <a:t>&lt;#&gt;</a:t>
            </a:fld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7FC3211-0A4C-403C-8CD0-0E4CB0CD21D3}" type="slidenum">
              <a:t>&lt;#&gt;</a:t>
            </a:fld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8F616F1-ABB7-4D99-A82F-D713D115C7A9}" type="slidenum">
              <a:t>&lt;#&gt;</a:t>
            </a:fld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E8EFB12-9288-427C-80CC-83CEFBCED635}" type="slidenum">
              <a:t>&lt;#&gt;</a:t>
            </a:fld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F169A3-9483-4E8F-BBF0-5F34634DAB1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3CDD8-C509-4387-84F4-D241BF8FA587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75CBF4-12F9-45FF-A62A-26A8E300FB60}" type="slidenum">
              <a:t>&lt;#&gt;</a:t>
            </a:fld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3F4431-2839-4E01-9C63-A83DD907E376}" type="slidenum">
              <a:t>&lt;#&gt;</a:t>
            </a:fld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E526B4-5999-4D23-B244-32D767186F94}" type="slidenum">
              <a:t>&lt;#&gt;</a:t>
            </a:fld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0AD783-3B69-4F9D-B8ED-8A335F78C719}" type="slidenum">
              <a:t>&lt;#&gt;</a:t>
            </a:fld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875099-8FB9-4584-A054-26536339EA12}" type="slidenum">
              <a:t>&lt;#&gt;</a:t>
            </a:fld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95D252-D945-46BC-9327-2C7C3290A53B}" type="slidenum">
              <a:t>&lt;#&gt;</a:t>
            </a:fld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025A54-F014-4613-9A46-35E692649BD5}" type="slidenum">
              <a:t>&lt;#&gt;</a:t>
            </a:fld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D6D1B5-7CF2-41FA-BB3C-BC6C3620F046}" type="slidenum">
              <a:t>&lt;#&gt;</a:t>
            </a:fld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15CF6F-4308-4BBE-8F14-70F4084D7D3C}" type="slidenum">
              <a:t>&lt;#&gt;</a:t>
            </a:fld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AEE393-6E7A-48CF-9A39-77A29BAE04C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9AB42-5174-49DD-87D9-6A3D8E8E9D6B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683529-6495-4CC0-A521-A3A2B5CB614E}" type="slidenum">
              <a:t>&lt;#&gt;</a:t>
            </a:fld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21BBC3A-F876-413A-ACEC-EC2E99266279}" type="slidenum">
              <a:t>&lt;#&gt;</a:t>
            </a:fld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7490984-F948-4720-9945-47F7672E75A5}" type="slidenum">
              <a:t>&lt;#&gt;</a:t>
            </a:fld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6B4366C-B8EE-40C1-80A0-CE5EA1F8BB5E}" type="slidenum">
              <a:t>&lt;#&gt;</a:t>
            </a:fld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45DB8F1-1A94-4BE9-AA23-A11ABB802D43}" type="slidenum">
              <a:t>&lt;#&gt;</a:t>
            </a:fld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354B4D2-9F7E-4EBF-8C25-CEE77DA8034C}" type="slidenum">
              <a:t>&lt;#&gt;</a:t>
            </a:fld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F8B411D-E73F-410B-8FB8-5AA24CDC9306}" type="slidenum">
              <a:t>&lt;#&gt;</a:t>
            </a:fld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D42A4DD-7A8B-4CD6-B626-BE767AAD3B1B}" type="slidenum">
              <a:t>&lt;#&gt;</a:t>
            </a:fld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FEC345C-337F-43A3-8F00-816015810A3C}" type="slidenum">
              <a:t>&lt;#&gt;</a:t>
            </a:fld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439C9F9-CC9A-4E14-BF54-0E37D782529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F0563-01D3-4C2C-BF82-E8BBA4CD192B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D04EEE3-146B-4221-9A3E-E2DC41C4F7D7}" type="slidenum">
              <a:t>&lt;#&gt;</a:t>
            </a:fld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8AF8F7C-A0A9-4AF2-A79A-AF89418FDBB3}" type="slidenum">
              <a:t>&lt;#&gt;</a:t>
            </a:fld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7AB6C6F-F333-4D40-BA46-BA1D3F9B0272}" type="slidenum">
              <a:t>&lt;#&gt;</a:t>
            </a:fld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7C6EA1E-C2D3-4CC7-8D27-5E757935810A}" type="slidenum">
              <a:t>&lt;#&gt;</a:t>
            </a:fld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910D95C-2F62-4400-8ED5-E3FEC7020332}" type="slidenum">
              <a:t>&lt;#&gt;</a:t>
            </a:fld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7B0083C-B029-41D2-A516-B504DF1D621A}" type="slidenum">
              <a:t>&lt;#&gt;</a:t>
            </a:fld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5BA796C-7D1B-495D-8A5A-DB11689CF69A}" type="slidenum">
              <a:t>&lt;#&gt;</a:t>
            </a:fld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2955364-00ED-440B-8F62-E08C9BCD63F0}" type="slidenum">
              <a:t>&lt;#&gt;</a:t>
            </a:fld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197D89F-CC6A-4D93-BF49-8D36B2F03D06}" type="slidenum">
              <a:t>&lt;#&gt;</a:t>
            </a:fld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BB84DBA-4322-4EA6-8615-3B4956DCFA9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C5A8E-1023-4A3E-B505-1F7127BFA3E9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DB2D489-6C67-45B9-9930-0403F6C2470F}" type="slidenum">
              <a:t>&lt;#&gt;</a:t>
            </a:fld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2B4269A-7C72-414F-BA86-D53E006BD568}" type="slidenum">
              <a:t>&lt;#&gt;</a:t>
            </a:fld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1DD1991-176B-4C68-AD3E-5CA2D8894753}" type="slidenum">
              <a:t>&lt;#&gt;</a:t>
            </a:fld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4EFB5A6-1502-48B9-91D8-7DE5BA2354E4}" type="slidenum">
              <a:t>&lt;#&gt;</a:t>
            </a:fld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5ED6FB3-A428-4ADE-A1C9-EF741EF50612}" type="slidenum">
              <a:t>&lt;#&gt;</a:t>
            </a:fld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D99E55-ABC4-4BC3-88D0-0185E73DF1CD}" type="slidenum">
              <a:t>&lt;#&gt;</a:t>
            </a:fld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0CA24A-0B70-4A74-B073-57139D960256}" type="slidenum">
              <a:t>&lt;#&gt;</a:t>
            </a:fld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906D19-6A09-4913-A8B5-6BFAB7A432C6}" type="slidenum">
              <a:t>&lt;#&gt;</a:t>
            </a:fld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348ADD-74E7-43F5-87EB-C28BF517D4F7}" type="slidenum">
              <a:t>&lt;#&gt;</a:t>
            </a:fld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35FE2B-80D4-499B-9938-702960A278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FB6DC-B37F-4A07-86C9-435943AF150F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A652AB-4BC1-4D10-9CFE-96D7B35824B9}" type="slidenum">
              <a:t>&lt;#&gt;</a:t>
            </a:fld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483591-DAA3-44E2-93A4-769186EFED08}" type="slidenum">
              <a:t>&lt;#&gt;</a:t>
            </a:fld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A84AAF-BFE1-48A4-854C-A6B9E0F18A23}" type="slidenum">
              <a:t>&lt;#&gt;</a:t>
            </a:fld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400570-8BC6-4A43-9993-2C5C5DFAADF5}" type="slidenum">
              <a:t>&lt;#&gt;</a:t>
            </a:fld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9AA69C-F02D-440F-80FB-082346AC9CAA}" type="slidenum">
              <a:t>&lt;#&gt;</a:t>
            </a:fld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E73832-D028-4665-9831-80E4AAC47AD4}" type="slidenum">
              <a:t>&lt;#&gt;</a:t>
            </a:fld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39D2DD-48BF-4D8D-8BB2-AD598578B750}" type="slidenum">
              <a:t>&lt;#&gt;</a:t>
            </a:fld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F05F8D8-CEB4-489A-931D-05AE523E2032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3015B74-33A4-4673-874A-0CA69E7965B7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B921607-F07A-4E67-B249-110001E184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7DF737-EF8D-4F75-945B-9AA32BAA3ABD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DAB5159-6949-4149-A44A-3734627BF731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B50024D-4491-4CC7-AA7B-65FD379919E5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AD62F4A-A55F-4481-B174-16D7CCD756A4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CBDE0BC-52F0-467F-9FDF-B2A51EB6EF8F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DD17460-884D-4510-AADE-32066BCAB870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F36B878-823B-48AD-9F2F-94EC516B72FB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5D8F38D-2253-4843-A7C1-77C4F2FBC79E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43D8053-E9DD-44F3-A05B-F6BE50C10BA6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FECE528-AC52-43F9-B314-FA6004106959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CD734BB-9445-44C3-9EE6-CCE9B057345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10492-4D07-4883-B77A-993D450975AE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A5194E6-2B71-4042-A564-CC1565C4A537}" type="slidenum">
              <a:t>&lt;#&gt;</a:t>
            </a:fld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1D0E3F8-EA98-435B-8350-9CC4CDA94ADA}" type="slidenum">
              <a:t>&lt;#&gt;</a:t>
            </a:fld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10A4B16-4BB2-462A-A7AE-94442F246DF2}" type="slidenum">
              <a:t>&lt;#&gt;</a:t>
            </a:fld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C512B57-E495-4889-AD4B-A53DDBEC795C}" type="slidenum">
              <a:t>&lt;#&gt;</a:t>
            </a:fld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1AE141F-1D6F-4809-B1BB-77DCC364244A}" type="slidenum">
              <a:t>&lt;#&gt;</a:t>
            </a:fld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B89DE11-D83C-4DBA-BE2F-BDBE5951FB9F}" type="slidenum">
              <a:t>&lt;#&gt;</a:t>
            </a:fld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A821D98-D751-43D4-A920-6309A69DAC51}" type="slidenum">
              <a:t>&lt;#&gt;</a:t>
            </a:fld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1CB9E00-52B3-444E-8BF3-31987A37DF49}" type="slidenum">
              <a:t>&lt;#&gt;</a:t>
            </a:fld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7E7CB9A-904D-4276-A010-546792354DD2}" type="slidenum">
              <a:t>&lt;#&gt;</a:t>
            </a:fld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0E7DF4B-14AE-4B11-AD2C-7B4CA8FF8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84F9-8F85-426D-8341-1575D3BD8A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27C51-1D06-4A9E-88E6-359CC32D1330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053C6CE-4C36-4180-997F-5B612AF5B241}" type="slidenum">
              <a:t>&lt;#&gt;</a:t>
            </a:fld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8C4A1E-E1B3-4500-AF86-73463003BA6F}" type="slidenum">
              <a:t>&lt;#&gt;</a:t>
            </a:fld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213525-A8FA-406B-A70C-573AD01EE2EC}" type="slidenum">
              <a:t>&lt;#&gt;</a:t>
            </a:fld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A10964-56BD-444C-BD3D-10C360D9FAE5}" type="slidenum">
              <a:t>&lt;#&gt;</a:t>
            </a:fld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75C71F-0A64-4CA7-B7D4-B74E3DECF79B}" type="slidenum">
              <a:t>&lt;#&gt;</a:t>
            </a:fld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20A5D7-1AD2-4C6F-AD79-CA6DA9A086E2}" type="slidenum">
              <a:t>&lt;#&gt;</a:t>
            </a:fld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B823AD-1B59-428B-9F15-1FA42BB311F1}" type="slidenum">
              <a:t>&lt;#&gt;</a:t>
            </a:fld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27439B-8423-4CF3-AEB1-E6AF21F345EF}" type="slidenum">
              <a:t>&lt;#&gt;</a:t>
            </a:fld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E30DE9-AEA4-4B12-8A1E-AF7C7D7CF0D2}" type="slidenum">
              <a:t>&lt;#&gt;</a:t>
            </a:fld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257AC7-E09E-4EB7-AB41-111DA8CCC9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E1F22-3B9B-4476-BE88-D8AF88F7BC2A}" type="slidenum">
              <a:t>&lt;#&gt;</a:t>
            </a:fld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B6D84E-1967-40A9-B736-E84D3E32A34A}" type="slidenum">
              <a:t>&lt;#&gt;</a:t>
            </a:fld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782CE1-9C6F-49E5-B021-9B9DFBF66FF0}" type="slidenum">
              <a:t>&lt;#&gt;</a:t>
            </a:fld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E51AF3-D8D5-4A35-859B-D23F5EB1842C}" type="slidenum">
              <a:t>&lt;#&gt;</a:t>
            </a:fld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B2480D8-0E61-40EE-A949-0AFE977D9F89}" type="slidenum">
              <a:t>&lt;#&gt;</a:t>
            </a:fld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5103B64-85C8-449E-A83A-2A04154EAA0B}" type="slidenum">
              <a:t>&lt;#&gt;</a:t>
            </a:fld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BB9F2DE-B3DB-4A0C-A735-CA86FC93F25A}" type="slidenum">
              <a:t>&lt;#&gt;</a:t>
            </a:fld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7D91678-8F22-4ED8-B232-D8A92218F308}" type="slidenum">
              <a:t>&lt;#&gt;</a:t>
            </a:fld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AE2BD0D-42CD-4879-A678-11508D6AE2B1}" type="slidenum">
              <a:t>&lt;#&gt;</a:t>
            </a:fld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92B8640-8B80-4ECE-936C-29235462B5EA}" type="slidenum">
              <a:t>&lt;#&gt;</a:t>
            </a:fld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9504A2E-C55A-4015-A744-193542D06D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FC0DF-C2F5-4708-9FC8-CD52F621C0C7}" type="slidenum">
              <a:t>&lt;#&gt;</a:t>
            </a:fld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4C79E02-ACC3-450E-8D56-4AA41F72B1A7}" type="slidenum">
              <a:t>&lt;#&gt;</a:t>
            </a:fld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EB3632D-2C6A-4ECF-BA8B-F5F20B8F0A54}" type="slidenum">
              <a:t>&lt;#&gt;</a:t>
            </a:fld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F0D94FC-E431-4EFB-97B4-6542C57E7BFE}" type="slidenum">
              <a:t>&lt;#&gt;</a:t>
            </a:fld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CA6F554-D955-47E3-B2D9-9855D8567065}" type="slidenum">
              <a:t>&lt;#&gt;</a:t>
            </a:fld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DAF0F46-C04B-4C09-9A01-5CC3912A0B56}" type="slidenum">
              <a:t>&lt;#&gt;</a:t>
            </a:fld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1E822DE-4204-48C0-BC49-0F78081C833E}" type="slidenum">
              <a:t>&lt;#&gt;</a:t>
            </a:fld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A30D7C8-4758-4C30-9FA2-87733BE1CB8D}" type="slidenum">
              <a:t>&lt;#&gt;</a:t>
            </a:fld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22B3AB4-6021-4900-ABAE-0CFF875D5EF6}" type="slidenum">
              <a:t>&lt;#&gt;</a:t>
            </a:fld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0016F22-0FBA-45DA-B7F6-2C88534BD336}" type="slidenum">
              <a:t>&lt;#&gt;</a:t>
            </a:fld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E3AF9F7-F336-4592-8031-39A38C62836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5F927-141F-433C-B641-C1F06EA7773E}" type="slidenum">
              <a:t>&lt;#&gt;</a:t>
            </a:fld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5C40DF2-33DF-48A8-8A15-73ED770FE94E}" type="slidenum">
              <a:t>&lt;#&gt;</a:t>
            </a:fld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6DF8553-ECC3-4D73-9CEA-C7535A138E48}" type="slidenum">
              <a:t>&lt;#&gt;</a:t>
            </a:fld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86ACB98-D00D-48C9-8CD2-7FDCD8ABA1B6}" type="slidenum">
              <a:t>&lt;#&gt;</a:t>
            </a:fld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8733DC7-2304-4AC0-B8FC-A2157EB47DC0}" type="slidenum">
              <a:t>&lt;#&gt;</a:t>
            </a:fld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89A1775-A7C8-4702-A9A1-A0157D264724}" type="slidenum">
              <a:t>&lt;#&gt;</a:t>
            </a:fld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F25C1A1-25CB-419B-BCEE-6C3C2AC55AC8}" type="slidenum">
              <a:t>&lt;#&gt;</a:t>
            </a:fld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F32A340-9678-473D-99CD-5A947997C35E}" type="slidenum">
              <a:t>&lt;#&gt;</a:t>
            </a:fld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C75461-4509-4691-8012-4E4EDE4877BF}" type="slidenum">
              <a:t>&lt;#&gt;</a:t>
            </a:fld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4DC30B-0853-4080-B7B7-199C19F13759}" type="slidenum">
              <a:t>&lt;#&gt;</a:t>
            </a:fld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E6FE51-1B53-4719-BEA1-842BFDD5C3C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DF752-6E87-431E-82EB-AF7BE9F8A049}" type="slidenum">
              <a:t>&lt;#&gt;</a:t>
            </a:fld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9D9D9B-CBCD-4139-B814-1EE997A289E9}" type="slidenum">
              <a:t>&lt;#&gt;</a:t>
            </a:fld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991AFA-6C10-4BE4-B743-FD2030E5719B}" type="slidenum">
              <a:t>&lt;#&gt;</a:t>
            </a:fld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5FC2C8-33FF-4EF9-8B96-B40C0800039B}" type="slidenum">
              <a:t>&lt;#&gt;</a:t>
            </a:fld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A40BEC-674E-4A78-8D64-4C1E74F2D667}" type="slidenum">
              <a:t>&lt;#&gt;</a:t>
            </a:fld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4C1FB1-422D-49ED-854A-6B0FE3AF5585}" type="slidenum">
              <a:t>&lt;#&gt;</a:t>
            </a:fld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EDD5AD-9254-497C-BA45-B7B78AB1058E}" type="slidenum">
              <a:t>&lt;#&gt;</a:t>
            </a:fld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A2125B-F87A-4CA3-98CB-F984DC05AAAB}" type="slidenum">
              <a:t>&lt;#&gt;</a:t>
            </a:fld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A8C832-884C-4725-847B-DCC49BDA9712}" type="slidenum">
              <a:t>&lt;#&gt;</a:t>
            </a:fld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B774A7-CAAC-46C2-9614-4307BABC9CF0}" type="slidenum">
              <a:t>&lt;#&gt;</a:t>
            </a:fld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117D196-115E-4009-A9D8-2FCCB5E7CDB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26857-335C-4981-A0A3-2DA84F1AE434}" type="slidenum">
              <a:t>&lt;#&gt;</a:t>
            </a:fld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4D8F56A-CACF-426E-96D4-2505EF0CBFA0}" type="slidenum">
              <a:t>&lt;#&gt;</a:t>
            </a:fld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9AA85D9-CA19-4D40-B305-01CFCD416BCE}" type="slidenum">
              <a:t>&lt;#&gt;</a:t>
            </a:fld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E47248D-3109-4597-ABDA-C4DED2C7550E}" type="slidenum">
              <a:t>&lt;#&gt;</a:t>
            </a:fld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6A51356-B0E6-4F12-84A2-03A7BEB22B29}" type="slidenum">
              <a:t>&lt;#&gt;</a:t>
            </a:fld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AE6163F-DB9C-4B28-9E90-2581C58199A4}" type="slidenum">
              <a:t>&lt;#&gt;</a:t>
            </a:fld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F3CEE65-2E7D-41A0-A405-9A5A784122B1}" type="slidenum">
              <a:t>&lt;#&gt;</a:t>
            </a:fld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DE9F560-B10F-4E14-8AB5-03AE515D8D62}" type="slidenum">
              <a:t>&lt;#&gt;</a:t>
            </a:fld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780A70D-9953-4A56-AB7D-AEEED2977E5B}" type="slidenum">
              <a:t>&lt;#&gt;</a:t>
            </a:fld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742DD9D-896D-4A38-83B2-E41F7C1B8D16}" type="slidenum">
              <a:t>&lt;#&gt;</a:t>
            </a:fld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1FB3752-2F90-4FCE-A570-7FC3360CE39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DCAEC-5E71-405C-AC20-DD22D81611B7}" type="slidenum">
              <a:t>&lt;#&gt;</a:t>
            </a:fld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29A21D9-1F88-4FAC-B9E5-3F5E7A252B84}" type="slidenum">
              <a:t>&lt;#&gt;</a:t>
            </a:fld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AF74649-E780-40F6-A15E-FF44CD5E52E9}" type="slidenum">
              <a:t>&lt;#&gt;</a:t>
            </a:fld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CF375D3-7293-4203-B669-4881D2AF4B57}" type="slidenum">
              <a:t>&lt;#&gt;</a:t>
            </a:fld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9526B40-FDFC-4511-8AB4-3E4338D26D53}" type="slidenum">
              <a:t>&lt;#&gt;</a:t>
            </a:fld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51B6466-9F21-4DD5-96E6-D4B3834FEA2D}" type="slidenum">
              <a:t>&lt;#&gt;</a:t>
            </a:fld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2B48265-B559-4C11-B660-F5C171B21F32}" type="slidenum">
              <a:t>&lt;#&gt;</a:t>
            </a:fld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CC0FB55-E973-450D-8122-E7A71F4EEA4D}" type="slidenum">
              <a:t>&lt;#&gt;</a:t>
            </a:fld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5D02621-491C-4245-AEBD-7B438ECE42C2}" type="slidenum">
              <a:t>&lt;#&gt;</a:t>
            </a:fld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94FBC04-E24D-49A9-8695-51FB34998679}" type="slidenum">
              <a:t>&lt;#&gt;</a:t>
            </a:fld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03D6233-9AF9-47FE-9346-819682E6CF3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DC18F-3637-4121-BB68-ADFC0099194F}" type="slidenum">
              <a:t>&lt;#&gt;</a:t>
            </a:fld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AA165D8-376C-4076-BFF6-4C32F026D899}" type="slidenum">
              <a:t>&lt;#&gt;</a:t>
            </a:fld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A3D92B5-2A03-4716-B228-6FDF11067B9D}" type="slidenum">
              <a:t>&lt;#&gt;</a:t>
            </a:fld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ECF7FBF-FF37-4722-A839-28695C06B23E}" type="slidenum">
              <a:t>&lt;#&gt;</a:t>
            </a:fld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C9AEA5-18E2-4101-BC92-EEC41E31208C}" type="slidenum">
              <a:t>&lt;#&gt;</a:t>
            </a:fld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65033F-7B18-404C-AC32-EA77BC619BA0}" type="slidenum">
              <a:t>&lt;#&gt;</a:t>
            </a:fld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1A17F4-B7D2-4291-8D0F-9B7E0A3F7864}" type="slidenum">
              <a:t>&lt;#&gt;</a:t>
            </a:fld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E2CD0F-3C1E-4839-96CF-FC20EDB0D66E}" type="slidenum">
              <a:t>&lt;#&gt;</a:t>
            </a:fld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A769C2-4E61-4955-8184-BEAB346E11FA}" type="slidenum">
              <a:t>&lt;#&gt;</a:t>
            </a:fld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08B422-A9FD-485C-9356-4DC8ADFF4986}" type="slidenum">
              <a:t>&lt;#&gt;</a:t>
            </a:fld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63E4A0-856E-4F97-80BE-349DCAAA07E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33959-C82E-423B-AA21-3839B310094D}" type="slidenum">
              <a:t>&lt;#&gt;</a:t>
            </a:fld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B14DE1-452C-4D63-83E0-A785C24CFBA4}" type="slidenum">
              <a:t>&lt;#&gt;</a:t>
            </a:fld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893606-1E56-45B6-880B-F6E45AB935D3}" type="slidenum">
              <a:t>&lt;#&gt;</a:t>
            </a:fld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2235D3-E2E2-42AA-A644-AAF29A22D054}" type="slidenum">
              <a:t>&lt;#&gt;</a:t>
            </a:fld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A6C0B0-49B0-49AC-86E0-05F3B2CD8041}" type="slidenum">
              <a:t>&lt;#&gt;</a:t>
            </a:fld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512241-2AE7-4CCE-9ECF-09A8944365D4}" type="slidenum">
              <a:t>&lt;#&gt;</a:t>
            </a:fld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EBDB712-09A6-46AD-97E7-DE4B8F24456A}" type="slidenum">
              <a:t>&lt;#&gt;</a:t>
            </a:fld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E903658-8482-4BE2-A257-50BFB46401DF}" type="slidenum">
              <a:t>&lt;#&gt;</a:t>
            </a:fld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8994517-D309-4388-9A71-B08AEAEEF740}" type="slidenum">
              <a:t>&lt;#&gt;</a:t>
            </a:fld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3CCE8F0-330B-4212-B337-4DD6CBF141F4}" type="slidenum">
              <a:t>&lt;#&gt;</a:t>
            </a:fld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39B788C-9FBC-45BA-BD9A-ABD0E3CEF54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60208-E595-4E29-B145-655527E8DCA4}" type="slidenum">
              <a:t>&lt;#&gt;</a:t>
            </a:fld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086C9A1-1B36-428D-835D-71342DF8A728}" type="slidenum">
              <a:t>&lt;#&gt;</a:t>
            </a:fld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A20FEDB-60CD-45FE-967E-7AF62BBF3AAC}" type="slidenum">
              <a:t>&lt;#&gt;</a:t>
            </a:fld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25E350B-F532-4DC6-8423-2C1848B15F58}" type="slidenum">
              <a:t>&lt;#&gt;</a:t>
            </a:fld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A9A36DB-3749-4CF8-B8E6-55FAD2CD3665}" type="slidenum">
              <a:t>&lt;#&gt;</a:t>
            </a:fld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980FB76-9C8E-427A-9393-2D81E742627A}" type="slidenum">
              <a:t>&lt;#&gt;</a:t>
            </a:fld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6C984E0-FC18-4641-9D3B-3BA9EAA30114}" type="slidenum">
              <a:t>&lt;#&gt;</a:t>
            </a:fld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1BC6107-285E-496F-9FD4-F14987A1AB4A}" type="slidenum">
              <a:t>&lt;#&gt;</a:t>
            </a:fld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EE0687D-6FF8-4185-BE89-750A9ACCE077}" type="slidenum">
              <a:t>&lt;#&gt;</a:t>
            </a:fld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335076A-1DFE-4F02-95C8-B82A8C3C7FF4}" type="slidenum">
              <a:t>&lt;#&gt;</a:t>
            </a:fld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74AC814-5763-4045-B100-63A11B737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98E3-3922-40D5-9A63-A0D8A31E7E3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6E7DD-64E8-4D3F-8364-6FE883809D13}" type="slidenum">
              <a:t>&lt;#&gt;</a:t>
            </a:fld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A3EC7B4-7856-4BB7-8D37-AF0DD93A289D}" type="slidenum">
              <a:t>&lt;#&gt;</a:t>
            </a:fld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913AC14-2ED3-40AD-BA9F-C2DE0C0859C7}" type="slidenum">
              <a:t>&lt;#&gt;</a:t>
            </a:fld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EF618F2-AF7D-4364-80A0-54CC428764A3}" type="slidenum">
              <a:t>&lt;#&gt;</a:t>
            </a:fld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72440B2-C2F0-4681-A5D2-B55CFB0D9007}" type="slidenum">
              <a:t>&lt;#&gt;</a:t>
            </a:fld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BECF438-02E5-42E0-9035-9EFC6DDABC9E}" type="slidenum">
              <a:t>&lt;#&gt;</a:t>
            </a:fld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F1402E0-D8FA-4E47-BA38-8F18592C7FFE}" type="slidenum">
              <a:t>&lt;#&gt;</a:t>
            </a:fld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12D901D-6591-4E0A-827B-9C9CAEF743BA}" type="slidenum">
              <a:t>&lt;#&gt;</a:t>
            </a:fld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CC66581-DD3C-4709-BFB6-9FEEAE1EF5C1}" type="slidenum">
              <a:t>&lt;#&gt;</a:t>
            </a:fld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D8B8011-A273-429D-BE06-9759675B5DBE}" type="slidenum">
              <a:t>&lt;#&gt;</a:t>
            </a:fld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9BE17D-326A-472D-B9E6-8A05A6E7931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FBCFD-6EB4-4A38-ACCB-70C9C2A93DE2}" type="slidenum">
              <a:t>&lt;#&gt;</a:t>
            </a:fld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ADDE3F-1BB7-4946-8CB4-EF1223388DA8}" type="slidenum">
              <a:t>&lt;#&gt;</a:t>
            </a:fld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89A691-34F8-4DBC-9C61-F1EE55DB8391}" type="slidenum">
              <a:t>&lt;#&gt;</a:t>
            </a:fld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35DD7D-C03E-47A9-A6A0-D67E008BEE0F}" type="slidenum">
              <a:t>&lt;#&gt;</a:t>
            </a:fld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5E7B28-0B82-44AB-9B1A-7E20719B85D5}" type="slidenum">
              <a:t>&lt;#&gt;</a:t>
            </a:fld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9CC3EA-573B-4DE3-975F-12ECFAB3DEAC}" type="slidenum">
              <a:t>&lt;#&gt;</a:t>
            </a:fld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5F93E4-1A1D-4C20-A884-8961268138DC}" type="slidenum">
              <a:t>&lt;#&gt;</a:t>
            </a:fld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C36F12-E2C5-4F7B-89C8-8B0DCB3E3986}" type="slidenum">
              <a:t>&lt;#&gt;</a:t>
            </a:fld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121AC1-4872-46F2-8B43-C3CFD480E000}" type="slidenum">
              <a:t>&lt;#&gt;</a:t>
            </a:fld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09C5F4-A37C-4025-BC95-5F067CA0F59E}" type="slidenum">
              <a:t>&lt;#&gt;</a:t>
            </a:fld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C0A67E-5EFC-4960-8676-45EF3FAAD5A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563E2-8283-4065-8952-DEAB9BC6D9EC}" type="slidenum">
              <a:t>&lt;#&gt;</a:t>
            </a:fld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35A58A-5228-4885-B1E7-E4C016CCC735}" type="slidenum">
              <a:t>&lt;#&gt;</a:t>
            </a:fld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0A2DF39-8832-4F50-891A-345638B28F00}" type="slidenum">
              <a:t>&lt;#&gt;</a:t>
            </a:fld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FE06436-0297-42E6-9753-7EE1892C9086}" type="slidenum">
              <a:t>&lt;#&gt;</a:t>
            </a:fld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879B00E-28D1-48E5-BC9B-AFF8B1D7DFE2}" type="slidenum">
              <a:t>&lt;#&gt;</a:t>
            </a:fld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72A31CA-DF1C-4553-A35C-FA94AEE4EFE1}" type="slidenum">
              <a:t>&lt;#&gt;</a:t>
            </a:fld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D6BEB62-4527-44A7-844B-CF39CEBF137E}" type="slidenum">
              <a:t>&lt;#&gt;</a:t>
            </a:fld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6A6C5E7-8D0E-42E7-A68E-D9393EFF834C}" type="slidenum">
              <a:t>&lt;#&gt;</a:t>
            </a:fld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42029CA-9CDE-4FB8-A399-95F64FF38135}" type="slidenum">
              <a:t>&lt;#&gt;</a:t>
            </a:fld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C77426F-94FB-44E3-8EBE-3F78A9A05698}" type="slidenum">
              <a:t>&lt;#&gt;</a:t>
            </a:fld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DB087CF-BFE6-4B41-83D2-09390727D2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D99A-004C-42BA-9D7B-32CDB13C1E29}" type="slidenum">
              <a:t>&lt;#&gt;</a:t>
            </a:fld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5EC2F87-704A-45C4-A84E-C900143E5C2F}" type="slidenum">
              <a:t>&lt;#&gt;</a:t>
            </a:fld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A0F3FDF-07EC-4B29-BDAC-7B87F5ACEE6F}" type="slidenum">
              <a:t>&lt;#&gt;</a:t>
            </a:fld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B9FC9AE-AF24-40F9-9443-A160442C8E69}" type="slidenum">
              <a:t>&lt;#&gt;</a:t>
            </a:fld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46FFED5-F152-4831-86B3-649699414DDE}" type="slidenum">
              <a:t>&lt;#&gt;</a:t>
            </a:fld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52CF902-52B9-4B94-8FA1-A56A1DD44827}" type="slidenum">
              <a:t>&lt;#&gt;</a:t>
            </a:fld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C194A6B-A5F1-4E79-AD9D-657EFCA7273C}" type="slidenum">
              <a:t>&lt;#&gt;</a:t>
            </a:fld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E8F6D69-71BC-4003-B769-C865C89E1FAB}" type="slidenum">
              <a:t>&lt;#&gt;</a:t>
            </a:fld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22F770D-2214-4342-82D2-57198C8FF971}" type="slidenum">
              <a:t>&lt;#&gt;</a:t>
            </a:fld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CF390B2-2760-416D-B753-6AC0C9FB77A4}" type="slidenum">
              <a:t>&lt;#&gt;</a:t>
            </a:fld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3872E9B-C89E-431E-A534-3F828FE5428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4F78-9660-435F-9D4C-AC192F141B7E}" type="slidenum">
              <a:t>&lt;#&gt;</a:t>
            </a:fld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1ACAC70-2DC8-4E62-B6C8-67F32EEB96F7}" type="slidenum">
              <a:t>&lt;#&gt;</a:t>
            </a:fld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77F0B6F-3A30-4D24-983A-CECD6197A2B3}" type="slidenum">
              <a:t>&lt;#&gt;</a:t>
            </a:fld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3AABC80-2E57-4091-A7A1-F03B71100B79}" type="slidenum">
              <a:t>&lt;#&gt;</a:t>
            </a:fld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60C8628-0707-48EE-A8E9-D3F5A8BC84A9}" type="slidenum">
              <a:t>&lt;#&gt;</a:t>
            </a:fld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1C2C49D-D13E-4B7E-A3C6-2BCE2F1601DC}" type="slidenum">
              <a:t>&lt;#&gt;</a:t>
            </a:fld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7FC1FF-AE0D-48C6-8FFF-F54721391AE5}" type="slidenum">
              <a:t>&lt;#&gt;</a:t>
            </a:fld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FE9A66-AC80-4480-BA16-9DEDC69B7FA6}" type="slidenum">
              <a:t>&lt;#&gt;</a:t>
            </a:fld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D464C0-3261-40E6-99F5-BBB2B18C05E1}" type="slidenum">
              <a:t>&lt;#&gt;</a:t>
            </a:fld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3E54D6-B0F1-4E3A-BEBA-A1023CE1BA41}" type="slidenum">
              <a:t>&lt;#&gt;</a:t>
            </a:fld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2DE40E-FC18-4017-AD42-3DB0CB39542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B6958-BCFE-4A38-A4C4-D3C4F13F14D2}" type="slidenum">
              <a:t>&lt;#&gt;</a:t>
            </a:fld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33214A-B003-4BF0-B746-E109D4B9357D}" type="slidenum">
              <a:t>&lt;#&gt;</a:t>
            </a:fld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F0EAE9-B1AA-44BA-8EDF-9F72EE5674F1}" type="slidenum">
              <a:t>&lt;#&gt;</a:t>
            </a:fld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7D1B00-20A0-43B3-857B-BB574C8B72A9}" type="slidenum">
              <a:t>&lt;#&gt;</a:t>
            </a:fld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CD1319-6A19-4670-B43E-F865C98D9E68}" type="slidenum">
              <a:t>&lt;#&gt;</a:t>
            </a:fld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F97264-20F3-41F6-A567-68B6DCEBDF00}" type="slidenum">
              <a:t>&lt;#&gt;</a:t>
            </a:fld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3AE80C-1EB3-458D-8DE5-9BBE070D55AE}" type="slidenum">
              <a:t>&lt;#&gt;</a:t>
            </a:fld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DB7A96-6944-4E3E-A8E9-740347399836}" type="slidenum">
              <a:t>&lt;#&gt;</a:t>
            </a:fld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C837724-479B-4C3B-8DB0-2DA590B3FEB9}" type="slidenum">
              <a:t>&lt;#&gt;</a:t>
            </a:fld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0444DCA-8609-483C-880C-9DFDDE143C2E}" type="slidenum">
              <a:t>&lt;#&gt;</a:t>
            </a:fld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5FDAEA7-A8E0-4EA7-AC70-F85F2EE46B8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610A-3D0D-44F2-A07B-9E170823275D}" type="slidenum">
              <a:t>&lt;#&gt;</a:t>
            </a:fld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AB5430D-B295-4CA4-A79D-642EE06DA87A}" type="slidenum">
              <a:t>&lt;#&gt;</a:t>
            </a:fld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B9B0411-26EC-4C4E-A786-57DB946824D5}" type="slidenum">
              <a:t>&lt;#&gt;</a:t>
            </a:fld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77A3EC4-A2D7-4908-B152-C3BF8E834BEB}" type="slidenum">
              <a:t>&lt;#&gt;</a:t>
            </a:fld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AA9CDB6-FD84-45DB-B2D6-C932FA14B115}" type="slidenum">
              <a:t>&lt;#&gt;</a:t>
            </a:fld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183D34D-636A-4207-8995-D0B06D7D7C63}" type="slidenum">
              <a:t>&lt;#&gt;</a:t>
            </a:fld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E15B6AD-DB94-43AF-AC85-BB9A769F1341}" type="slidenum">
              <a:t>&lt;#&gt;</a:t>
            </a:fld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50CA130-C48D-4169-9DC0-DB00D356A29A}" type="slidenum">
              <a:t>&lt;#&gt;</a:t>
            </a:fld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5BD7B25-EBDF-4989-911E-66DC3A1F4A13}" type="slidenum">
              <a:t>&lt;#&gt;</a:t>
            </a:fld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548EC70-B0E5-4255-A22A-56624503B173}" type="slidenum">
              <a:t>&lt;#&gt;</a:t>
            </a:fld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F10D71C-D021-4B0F-9050-BFA8662AECC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E791F-06BD-44B8-9D45-9D30C5AB499F}" type="slidenum">
              <a:t>&lt;#&gt;</a:t>
            </a:fld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7905963-841C-4FCC-8624-E334E5067288}" type="slidenum">
              <a:t>&lt;#&gt;</a:t>
            </a:fld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B38ED3D-84FD-4929-AD46-82680A32914E}" type="slidenum">
              <a:t>&lt;#&gt;</a:t>
            </a:fld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4F04F55-6F50-465F-A422-3987EFB4CADB}" type="slidenum">
              <a:t>&lt;#&gt;</a:t>
            </a:fld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D02C689-F34D-408E-9E6F-B935515C5EE3}" type="slidenum">
              <a:t>&lt;#&gt;</a:t>
            </a:fld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A039B11-404F-4E0A-AD21-B876C849B6C4}" type="slidenum">
              <a:t>&lt;#&gt;</a:t>
            </a:fld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9A9A911-600F-4B64-9D46-C09D3824BD77}" type="slidenum">
              <a:t>&lt;#&gt;</a:t>
            </a:fld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69D4637-7893-47E6-806F-FCD2EB6DCE5A}" type="slidenum">
              <a:t>&lt;#&gt;</a:t>
            </a:fld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58C0797-ABF9-4166-B51E-F952A56FABA2}" type="slidenum">
              <a:t>&lt;#&gt;</a:t>
            </a:fld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ACB14BB-9E8F-4C9C-8DFE-2B26D2D1B849}" type="slidenum">
              <a:t>&lt;#&gt;</a:t>
            </a:fld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7272975-B04A-4C7D-B217-71B2B79DAA8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C9A7-AB08-4384-9C79-482A672B696A}" type="slidenum">
              <a:t>&lt;#&gt;</a:t>
            </a:fld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B876180-5820-451C-A385-7F587AFAE2E2}" type="slidenum">
              <a:t>&lt;#&gt;</a:t>
            </a:fld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6F7589-E21D-4704-AD64-3AAEEC63588D}" type="slidenum">
              <a:t>&lt;#&gt;</a:t>
            </a:fld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2138E1E-3CE4-448D-936A-40A495F416D0}" type="slidenum">
              <a:t>&lt;#&gt;</a:t>
            </a:fld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633831-9F6C-4FC5-90B0-0B463EFBFE50}" type="slidenum">
              <a:t>&lt;#&gt;</a:t>
            </a:fld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BE8351-F4A0-4629-A37F-8A4E8274EFA2}" type="slidenum">
              <a:t>&lt;#&gt;</a:t>
            </a:fld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EC472C-F8D8-4DE6-89F0-BED1A491A624}" type="slidenum">
              <a:t>&lt;#&gt;</a:t>
            </a:fld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4C80F7-2E09-4628-A29E-2A3A088E3B87}" type="slidenum">
              <a:t>&lt;#&gt;</a:t>
            </a:fld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9730BB-90A8-451F-9044-A97E9289CAA2}" type="slidenum">
              <a:t>&lt;#&gt;</a:t>
            </a:fld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CC9CE51-2F1B-46B5-9B1F-3F512F5BCCA1}" type="slidenum">
              <a:t>&lt;#&gt;</a:t>
            </a:fld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180AB9-8868-4ABE-8397-A62FDF4BA12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7A9EA-63BE-4949-BACF-DA39BB489F34}" type="slidenum">
              <a:t>&lt;#&gt;</a:t>
            </a:fld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43663A-C4BF-48EA-8455-9BE626848BCB}" type="slidenum">
              <a:t>&lt;#&gt;</a:t>
            </a:fld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B1FBE7-D624-4739-B148-383918DB70F8}" type="slidenum">
              <a:t>&lt;#&gt;</a:t>
            </a:fld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3CD7A22-AA76-4716-8778-058F4B8F3486}" type="slidenum">
              <a:t>&lt;#&gt;</a:t>
            </a:fld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B66BE98-CFA2-4349-8B2E-D73A758137FD}" type="slidenum">
              <a:t>&lt;#&gt;</a:t>
            </a:fld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6048BE0-DCFA-43F4-9A17-DFABCC28AAF5}" type="slidenum">
              <a:t>&lt;#&gt;</a:t>
            </a:fld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A1D39FA-2588-414A-B41F-FC29E8945C1E}" type="slidenum">
              <a:t>&lt;#&gt;</a:t>
            </a:fld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6DD886F-0E3F-4F76-B14C-E04073CA469D}" type="slidenum">
              <a:t>&lt;#&gt;</a:t>
            </a:fld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8A051A6-115C-4397-9E3B-2491CCF4D1BC}" type="slidenum">
              <a:t>&lt;#&gt;</a:t>
            </a:fld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6350DFE-CAE7-4FA3-B7F0-C455D96F79C4}" type="slidenum">
              <a:t>&lt;#&gt;</a:t>
            </a:fld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56C2BE1-6750-4BF5-AFCB-2339D3DE6D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1BE3-22F7-4C52-A229-B8B5916AC48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B9F3-5EF6-4122-A0B2-D8C193625DA7}" type="slidenum">
              <a:t>&lt;#&gt;</a:t>
            </a:fld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4B86D36-36BF-44AD-BBFE-E4D946455129}" type="slidenum">
              <a:t>&lt;#&gt;</a:t>
            </a:fld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B88CC6A-3DD8-44CC-B6EE-08057EA5D8AE}" type="slidenum">
              <a:t>&lt;#&gt;</a:t>
            </a:fld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5AD00F6-AB04-4464-A645-FA6B36318B80}" type="slidenum">
              <a:t>&lt;#&gt;</a:t>
            </a:fld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49194D5-4CA0-47E8-A7C3-8518FCB8EADB}" type="slidenum">
              <a:t>&lt;#&gt;</a:t>
            </a:fld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F8D8B45-3A9D-41A4-BF88-2699650C3569}" type="slidenum">
              <a:t>&lt;#&gt;</a:t>
            </a:fld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F7895F6-16F4-4D71-9651-3F766DD40C2C}" type="slidenum">
              <a:t>&lt;#&gt;</a:t>
            </a:fld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F69CA50-87C0-4ACF-A140-872F1726AC9E}" type="slidenum">
              <a:t>&lt;#&gt;</a:t>
            </a:fld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652A262-9D68-4F80-947D-D60D8FC3FB68}" type="slidenum">
              <a:t>&lt;#&gt;</a:t>
            </a:fld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ACA0EF9-456D-44E2-811E-E65FE76656D6}" type="slidenum">
              <a:t>&lt;#&gt;</a:t>
            </a:fld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DC27C2E-207C-4DB4-8630-C842422538F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01882-0C6E-4F6B-B341-A47D1102EF1C}" type="slidenum">
              <a:t>&lt;#&gt;</a:t>
            </a:fld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CA9533F-884A-4571-B0A2-A1750F90C628}" type="slidenum">
              <a:t>&lt;#&gt;</a:t>
            </a:fld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B656FDF-A822-4D89-84D2-E7840CF8863B}" type="slidenum">
              <a:t>&lt;#&gt;</a:t>
            </a:fld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2DC5EC6-E047-40A6-8AD0-B1BB2FEBFEC7}" type="slidenum">
              <a:t>&lt;#&gt;</a:t>
            </a:fld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6932B89-FDCC-47AF-B1FB-81E8866C3387}" type="slidenum">
              <a:t>&lt;#&gt;</a:t>
            </a:fld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B379B09-03A3-4D91-8886-4BDBAAEE1584}" type="slidenum">
              <a:t>&lt;#&gt;</a:t>
            </a:fld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EFD3F74-2526-404C-B035-D2FA552E8935}" type="slidenum">
              <a:t>&lt;#&gt;</a:t>
            </a:fld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8C2A105-D12E-4BA6-B4FD-CAF6F5C63218}" type="slidenum">
              <a:t>&lt;#&gt;</a:t>
            </a:fld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8B0530-90DC-421C-8F61-3A55592F4F82}" type="slidenum">
              <a:t>&lt;#&gt;</a:t>
            </a:fld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1111AD-C67C-4B1B-89EC-572D754E6327}" type="slidenum">
              <a:t>&lt;#&gt;</a:t>
            </a:fld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EF283B-4F66-45D5-A958-6E546CEADDB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606FE-F138-49DB-9F4D-E2FF604C18C3}" type="slidenum">
              <a:t>&lt;#&gt;</a:t>
            </a:fld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8CAAC24-55E5-4C1E-978C-69A09B1FB45A}" type="slidenum">
              <a:t>&lt;#&gt;</a:t>
            </a:fld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6730C3C-D090-4BD8-86F9-AEBF3940F2BA}" type="slidenum">
              <a:t>&lt;#&gt;</a:t>
            </a:fld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558455-5530-4FBA-B9F7-57AC84032F79}" type="slidenum">
              <a:t>&lt;#&gt;</a:t>
            </a:fld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152DA8-050D-44D2-BB1A-6DAA08193D16}" type="slidenum">
              <a:t>&lt;#&gt;</a:t>
            </a:fld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6D96AD-E760-4349-A6F5-C312834EEB8A}" type="slidenum">
              <a:t>&lt;#&gt;</a:t>
            </a:fld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B6187E-43ED-4BAE-8370-7A8F7B992B62}" type="slidenum">
              <a:t>&lt;#&gt;</a:t>
            </a:fld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CBB6EF-9642-4092-8F29-3A3194110A65}" type="slidenum">
              <a:t>&lt;#&gt;</a:t>
            </a:fld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90151A-D6A5-424B-90D9-E413C71377BF}" type="slidenum">
              <a:t>&lt;#&gt;</a:t>
            </a:fld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1C55F1-F6B2-4D9F-B9A6-E791516D9FD4}" type="slidenum">
              <a:t>&lt;#&gt;</a:t>
            </a:fld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F1D432C-1782-43F3-BA9B-5F4A93D1161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70DE8-87E7-47CF-9496-8BDCEF955CC8}" type="slidenum">
              <a:t>&lt;#&gt;</a:t>
            </a:fld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232BF4E-A235-4AEA-A82A-DA6129F80551}" type="slidenum">
              <a:t>&lt;#&gt;</a:t>
            </a:fld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6C44901-A555-45A8-8142-83D538F5F1D0}" type="slidenum">
              <a:t>&lt;#&gt;</a:t>
            </a:fld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CDAF1F4-B306-4CF4-921D-BBF7E396F452}" type="slidenum">
              <a:t>&lt;#&gt;</a:t>
            </a:fld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588CC2C-DD0D-4864-968C-3F76C05E29DA}" type="slidenum">
              <a:t>&lt;#&gt;</a:t>
            </a:fld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9BA7BB9-EA03-4571-BA47-00037D72A320}" type="slidenum">
              <a:t>&lt;#&gt;</a:t>
            </a:fld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5208E2E-A2EC-4C03-AED1-83D258C95DC9}" type="slidenum">
              <a:t>&lt;#&gt;</a:t>
            </a:fld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6D9A8D6-6C88-413A-8DC0-A6F634A78708}" type="slidenum">
              <a:t>&lt;#&gt;</a:t>
            </a:fld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03FE101-00A9-4AE6-94D5-7C5DE111F900}" type="slidenum">
              <a:t>&lt;#&gt;</a:t>
            </a:fld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921CF98-38D7-4689-8436-D3944B40164A}" type="slidenum">
              <a:t>&lt;#&gt;</a:t>
            </a:fld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5C7E219-82A5-4D7C-8AF2-39F72524832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A6B3D-4B3E-4405-8851-05120ED31CAB}" type="slidenum">
              <a:t>&lt;#&gt;</a:t>
            </a:fld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CCE3BDE-1D25-40E0-B86E-13DA7519DCD4}" type="slidenum">
              <a:t>&lt;#&gt;</a:t>
            </a:fld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B16756E-DDEE-4B6A-9AB3-BB13606F7C13}" type="slidenum">
              <a:t>&lt;#&gt;</a:t>
            </a:fld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3CEECF1-8A25-440C-BCCD-A22E29514180}" type="slidenum">
              <a:t>&lt;#&gt;</a:t>
            </a:fld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5D757E4-BAEC-4D0B-9902-8A8474DD08CE}" type="slidenum">
              <a:t>&lt;#&gt;</a:t>
            </a:fld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DBE5DEA-D31F-4347-9F25-4CA0394ED40D}" type="slidenum">
              <a:t>&lt;#&gt;</a:t>
            </a:fld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75850C3-577E-490F-8422-132934DBB861}" type="slidenum">
              <a:t>&lt;#&gt;</a:t>
            </a:fld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250ECAA-C654-4E39-B1CA-CEDC93352F9B}" type="slidenum">
              <a:t>&lt;#&gt;</a:t>
            </a:fld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28D356A-1DF0-48B3-A0CA-07C9770B5AB7}" type="slidenum">
              <a:t>&lt;#&gt;</a:t>
            </a:fld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7BEE1B7-30AC-484B-9D0A-44907A27C621}" type="slidenum">
              <a:t>&lt;#&gt;</a:t>
            </a:fld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2DCB454-EE61-446F-BB6C-748D6E072C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0CD35-A629-4798-816C-41E78F02D2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6659A58-F87F-41A1-B6A6-58D949BC2AD3}" type="slidenum">
              <a:t>&lt;#&gt;</a:t>
            </a:fld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1CB969E-906B-4C17-88CB-76FF2B2B1476}" type="slidenum">
              <a:t>&lt;#&gt;</a:t>
            </a:fld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4593929-33A8-4BEC-BA8C-04DBE09040B5}" type="slidenum">
              <a:t>&lt;#&gt;</a:t>
            </a:fld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ED6571-401A-4A58-8243-BA8EBCA8C9D8}" type="slidenum">
              <a:t>&lt;#&gt;</a:t>
            </a:fld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4FADE23-80AC-4E98-A4F6-A6BAD2B52017}" type="slidenum">
              <a:t>&lt;#&gt;</a:t>
            </a:fld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10909F-1947-4E97-94B5-529185F4627B}" type="slidenum">
              <a:t>&lt;#&gt;</a:t>
            </a:fld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3C3177E-04F6-44CF-8223-6DADBCADD5B7}" type="slidenum">
              <a:t>&lt;#&gt;</a:t>
            </a:fld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729D107-3270-4B8C-B926-A5DCA3CB6AC9}" type="slidenum">
              <a:t>&lt;#&gt;</a:t>
            </a:fld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1822DD6-05A9-4A2D-AC4D-FAF6FC742E05}" type="slidenum">
              <a:t>&lt;#&gt;</a:t>
            </a:fld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AD09E9-5DF5-46A4-9F53-BFDE61105EA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C6A64-64FC-44C3-8F87-7F364F38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F49EE9E-FF15-40F3-B629-BEE05FD0EE1A}" type="slidenum">
              <a:t>&lt;#&gt;</a:t>
            </a:fld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2ED7396-46D0-4F71-92B7-1D184A77E0A9}" type="slidenum">
              <a:t>&lt;#&gt;</a:t>
            </a:fld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18F5D80-14FE-450E-84EB-6455CCB05A15}" type="slidenum">
              <a:t>&lt;#&gt;</a:t>
            </a:fld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769E12-B30C-4623-867D-DB146874FEAD}" type="slidenum">
              <a:t>&lt;#&gt;</a:t>
            </a:fld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89777F8-17EC-4200-A421-39DC22A7DB06}" type="slidenum">
              <a:t>&lt;#&gt;</a:t>
            </a:fld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0FDC7B9-151F-4E77-B6AD-144B6AEE0277}" type="slidenum">
              <a:t>&lt;#&gt;</a:t>
            </a:fld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5FE95F7-E339-40AA-A8B0-C71E45ED1EE6}" type="slidenum">
              <a:t>&lt;#&gt;</a:t>
            </a:fld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F775497-2660-4D70-8DA9-F5630597A807}" type="slidenum">
              <a:t>&lt;#&gt;</a:t>
            </a:fld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4CC3180-C046-478D-8E60-0700749B1709}" type="slidenum">
              <a:t>&lt;#&gt;</a:t>
            </a:fld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61EE3BB-2839-4784-8E90-A2BE82E78E1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F64E4-920F-4A50-B5A1-7B4A1B09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A08C2B7-C652-4AE0-A295-B13F9F6633C2}" type="slidenum">
              <a:t>&lt;#&gt;</a:t>
            </a:fld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AC98861-33EC-482F-825C-0AAF3EF4EFF9}" type="slidenum">
              <a:t>&lt;#&gt;</a:t>
            </a:fld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3C9FCF2-F28C-4600-9F94-4417F7C2441C}" type="slidenum">
              <a:t>&lt;#&gt;</a:t>
            </a:fld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E9DF240-67EC-4148-979A-DD0198517AE9}" type="slidenum">
              <a:t>&lt;#&gt;</a:t>
            </a:fld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BABB648-DBAB-46B5-A07D-909DB73B1B19}" type="slidenum">
              <a:t>&lt;#&gt;</a:t>
            </a:fld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1C74678-480F-4AF0-B5D1-0D1C7A7BE52C}" type="slidenum">
              <a:t>&lt;#&gt;</a:t>
            </a:fld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F353637-A5BC-4852-B487-650615DA924E}" type="slidenum">
              <a:t>&lt;#&gt;</a:t>
            </a:fld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AA3CE34-65C2-40E5-8045-789DA842B455}" type="slidenum">
              <a:t>&lt;#&gt;</a:t>
            </a:fld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9D2B004-F9D5-470E-990A-E84C2257CA44}" type="slidenum">
              <a:t>&lt;#&gt;</a:t>
            </a:fld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4ABF090-70F6-44F2-A5D7-1E356D5A2E8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CBB3E-E5F3-49EA-9314-0333246C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369D39B-163F-47B6-B7B0-A5AAC30D7651}" type="slidenum">
              <a:t>&lt;#&gt;</a:t>
            </a:fld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69B5F80-317F-4382-9298-5886816B0336}" type="slidenum">
              <a:t>&lt;#&gt;</a:t>
            </a:fld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AD69485-5E61-41B9-9378-73D21F6547BB}" type="slidenum">
              <a:t>&lt;#&gt;</a:t>
            </a:fld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A5BA07F-2AFF-48DA-B43B-96263E9BAB38}" type="slidenum">
              <a:t>&lt;#&gt;</a:t>
            </a:fld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725DA98-4FD4-452C-B5DC-F2663C4AD6B2}" type="slidenum">
              <a:t>&lt;#&gt;</a:t>
            </a:fld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B0EB9F3-0CD1-497A-8FE6-3D8D42F419C2}" type="slidenum">
              <a:t>&lt;#&gt;</a:t>
            </a:fld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28476A2-A3BB-4E4B-A34B-F5BC340692CD}" type="slidenum">
              <a:t>&lt;#&gt;</a:t>
            </a:fld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D4BD3FF-3696-4744-9576-5451233A552A}" type="slidenum">
              <a:t>&lt;#&gt;</a:t>
            </a:fld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5458832-868C-46C7-BCD2-A6D89C4A26E8}" type="slidenum">
              <a:t>&lt;#&gt;</a:t>
            </a:fld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F29868-37C3-4A83-8929-D9D251B261E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2A6EF-BBD8-4419-9987-7264792A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0F9293D-8380-4D9E-8F69-5FEDBB27974E}" type="slidenum">
              <a:t>&lt;#&gt;</a:t>
            </a:fld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D86C655-E3ED-4270-AF17-4F436EE341DC}" type="slidenum">
              <a:t>&lt;#&gt;</a:t>
            </a:fld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F9E4BBF-34D5-4961-8356-974B00867CF2}" type="slidenum">
              <a:t>&lt;#&gt;</a:t>
            </a:fld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B5C19FE-2935-4F13-89F0-4966C4E37532}" type="slidenum">
              <a:t>&lt;#&gt;</a:t>
            </a:fld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5547CE3-64CA-4DBF-A8D8-42A8612FDE3A}" type="slidenum">
              <a:t>&lt;#&gt;</a:t>
            </a:fld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FD670A-A7B2-4256-8447-664D81C72E63}" type="slidenum">
              <a:t>&lt;#&gt;</a:t>
            </a:fld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25F0701-70C5-42EB-8E7E-F1B35EE07972}" type="slidenum">
              <a:t>&lt;#&gt;</a:t>
            </a:fld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3A5C7F-D1CD-42AA-AD73-588AB78F1CD7}" type="slidenum">
              <a:t>&lt;#&gt;</a:t>
            </a:fld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AAEB07-100D-4103-8801-B5D8C27A9A9F}" type="slidenum">
              <a:t>&lt;#&gt;</a:t>
            </a:fld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BBB4CB0-470A-4BD0-9B7D-F5783595B9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183C-A570-4CD6-9144-6D06C877877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B37AA-15BD-43FC-A909-3AE1B220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90CD53-1F91-4423-AA12-8DEB0FFC369E}" type="slidenum">
              <a:t>&lt;#&gt;</a:t>
            </a:fld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719378F-3247-4A58-B79C-18789890D9A6}" type="slidenum">
              <a:t>&lt;#&gt;</a:t>
            </a:fld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0A4B9CD-FA21-45B0-8911-3EA73761BC13}" type="slidenum">
              <a:t>&lt;#&gt;</a:t>
            </a:fld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B46F7F9-DEFE-42B6-81E2-26531570AD6A}" type="slidenum">
              <a:t>&lt;#&gt;</a:t>
            </a:fld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CBB19EE-11C2-496F-A441-36550C19F6C0}" type="slidenum">
              <a:t>&lt;#&gt;</a:t>
            </a:fld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5C7B8D1-F6B0-4B91-9D01-22CA42488918}" type="slidenum">
              <a:t>&lt;#&gt;</a:t>
            </a:fld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83C3326-9973-4406-A765-EFDC75BDD06C}" type="slidenum">
              <a:t>&lt;#&gt;</a:t>
            </a:fld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EAB1516-B1BD-4C6F-918B-36B1CE461C7D}" type="slidenum">
              <a:t>&lt;#&gt;</a:t>
            </a:fld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49ED2F5-1C0F-4769-B3C7-8C82B143C578}" type="slidenum">
              <a:t>&lt;#&gt;</a:t>
            </a:fld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09A9C08-00D3-4AB8-B3B2-3EB7EE13842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DB788-C98E-4DCF-A199-67087ADE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6AB343C-B59A-4E96-8E3F-1754670FB189}" type="slidenum">
              <a:t>&lt;#&gt;</a:t>
            </a:fld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9C59AEF-89B7-497A-AE6F-60F718D75C42}" type="slidenum">
              <a:t>&lt;#&gt;</a:t>
            </a:fld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BA3E031-D10E-4587-93FB-3660817F2F0B}" type="slidenum">
              <a:t>&lt;#&gt;</a:t>
            </a:fld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22A993F-C4EA-46C5-A347-CB2AA30B2FCD}" type="slidenum">
              <a:t>&lt;#&gt;</a:t>
            </a:fld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5975D4C-9858-4D6A-AED0-3E43878021D2}" type="slidenum">
              <a:t>&lt;#&gt;</a:t>
            </a:fld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C055E5A-2277-4C03-9778-CB90CE21768F}" type="slidenum">
              <a:t>&lt;#&gt;</a:t>
            </a:fld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F79501D-B439-4A69-8DE6-B86ECCBA956F}" type="slidenum">
              <a:t>&lt;#&gt;</a:t>
            </a:fld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45B9E82-DD59-4347-AF4A-AAA41FB791EB}" type="slidenum">
              <a:t>&lt;#&gt;</a:t>
            </a:fld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F77D4D0-D44D-413F-B7DA-9F07ADF1C1B4}" type="slidenum">
              <a:t>&lt;#&gt;</a:t>
            </a:fld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1EB3917-5D4A-456B-9116-30D4699E281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20093-BF4E-4271-ADE6-40C3A477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48C911B-0A3A-4389-8C5E-E5A88216C09B}" type="slidenum">
              <a:t>&lt;#&gt;</a:t>
            </a:fld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8C943BB-CB5F-47AD-960A-1484BE4A48D0}" type="slidenum">
              <a:t>&lt;#&gt;</a:t>
            </a:fld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F36F84D-B052-44A4-A6B2-C0C10B0C7218}" type="slidenum">
              <a:t>&lt;#&gt;</a:t>
            </a:fld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B437021-EF40-45DF-B4B4-1D9D40FE84E0}" type="slidenum">
              <a:t>&lt;#&gt;</a:t>
            </a:fld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8BC8DB5-673E-4502-8EB4-350CAD3033B7}" type="slidenum">
              <a:t>&lt;#&gt;</a:t>
            </a:fld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6E5F80-8517-4F3D-9854-9969C5B9A563}" type="slidenum">
              <a:t>&lt;#&gt;</a:t>
            </a:fld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61DEB1B-25BF-49AA-8E82-81434A09C9C4}" type="slidenum">
              <a:t>&lt;#&gt;</a:t>
            </a:fld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39362C6-F823-4796-9550-8D39DDE22271}" type="slidenum">
              <a:t>&lt;#&gt;</a:t>
            </a:fld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564CCB-5F1A-44EB-B2F4-6AF37D7D74A3}" type="slidenum">
              <a:t>&lt;#&gt;</a:t>
            </a:fld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2020AC-B036-4880-AFE7-E25821A9158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55A21-8798-40A1-9385-DA020E8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6B016D6-6721-491E-8EB2-2173E9785D57}" type="slidenum">
              <a:t>&lt;#&gt;</a:t>
            </a:fld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542875-E991-427D-977B-4456AB8CEC65}" type="slidenum">
              <a:t>&lt;#&gt;</a:t>
            </a:fld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465DCB9-1A8A-4FB7-85CF-3DA704A7E238}" type="slidenum">
              <a:t>&lt;#&gt;</a:t>
            </a:fld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71907BE-D49D-4916-9573-24A50836F40A}" type="slidenum">
              <a:t>&lt;#&gt;</a:t>
            </a:fld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58B650-5716-4FE8-BDB8-F20B5998D2BA}" type="slidenum">
              <a:t>&lt;#&gt;</a:t>
            </a:fld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AEB3B68-59D0-4321-AFE7-49068104A2F5}" type="slidenum">
              <a:t>&lt;#&gt;</a:t>
            </a:fld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692B67-3F55-49B7-964E-C55A60FDFAF6}" type="slidenum">
              <a:t>&lt;#&gt;</a:t>
            </a:fld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26CD39F-ACCA-499E-86CD-8C25718DA847}" type="slidenum">
              <a:t>&lt;#&gt;</a:t>
            </a:fld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90E172A-C531-4D87-B27A-63768569B023}" type="slidenum">
              <a:t>&lt;#&gt;</a:t>
            </a:fld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501999E-BB7A-4A4F-A504-D25FD0D7859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BAFE3-07DF-457A-AC80-EB412926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1CE868B-64C5-4635-9999-3B8635102EDC}" type="slidenum">
              <a:t>&lt;#&gt;</a:t>
            </a:fld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2F2E400-C43A-41E2-A2F6-FD9F9C690383}" type="slidenum">
              <a:t>&lt;#&gt;</a:t>
            </a:fld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2A2CB54-E232-47B0-B080-FA2CB5409C41}" type="slidenum">
              <a:t>&lt;#&gt;</a:t>
            </a:fld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DE1E599-82ED-4CA7-81F1-E7333FACC124}" type="slidenum">
              <a:t>&lt;#&gt;</a:t>
            </a:fld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C7D39C6-6419-43C9-9C0A-9C102A4FB805}" type="slidenum">
              <a:t>&lt;#&gt;</a:t>
            </a:fld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5983DF0-C102-42C2-AEC8-5A516818600C}" type="slidenum">
              <a:t>&lt;#&gt;</a:t>
            </a:fld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CFE359C-4B69-40AD-9421-1DCD9CE30464}" type="slidenum">
              <a:t>&lt;#&gt;</a:t>
            </a:fld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D5784D8-AE4A-4869-8FF2-2ED4EAA8AAE5}" type="slidenum">
              <a:t>&lt;#&gt;</a:t>
            </a:fld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89FA4D6-ADBA-4F3E-B44A-16751860DB83}" type="slidenum">
              <a:t>&lt;#&gt;</a:t>
            </a:fld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08E62BE-E2A1-41B4-96A5-777BCC782E8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BE35F-560F-41FA-BF54-752DDC3C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6513B6C-EFBD-44E7-AD43-F0161D96405C}" type="slidenum">
              <a:t>&lt;#&gt;</a:t>
            </a:fld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AEE5DAD-48F1-4793-994C-6D4E107006B8}" type="slidenum">
              <a:t>&lt;#&gt;</a:t>
            </a:fld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7E80EDA-283F-47EF-8C56-068C800C8EB4}" type="slidenum">
              <a:t>&lt;#&gt;</a:t>
            </a:fld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6F568F5-0A74-4FED-AE08-1E5C93E720F6}" type="slidenum">
              <a:t>&lt;#&gt;</a:t>
            </a:fld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48215A0-10FB-4D34-BCBE-059201BC4E8E}" type="slidenum">
              <a:t>&lt;#&gt;</a:t>
            </a:fld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9B61F58-F7B6-4B88-BB89-0B6FF77B9D2D}" type="slidenum">
              <a:t>&lt;#&gt;</a:t>
            </a:fld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48651FF-0481-4FA4-9E28-A35659A583DA}" type="slidenum">
              <a:t>&lt;#&gt;</a:t>
            </a:fld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F9C4E95-ABD0-4F24-A8F0-A35945FEC0B4}" type="slidenum">
              <a:t>&lt;#&gt;</a:t>
            </a:fld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3D8C276-3AB8-456A-BC80-5FA99C22D0C8}" type="slidenum">
              <a:t>&lt;#&gt;</a:t>
            </a:fld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2CB6967-4234-4B00-AB6E-3E85EBA136E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8AB89-5F58-4F63-88F2-325BDB6ECA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D3B07ED-0840-40B7-AA5B-4A3017B71ED5}" type="slidenum">
              <a:t>&lt;#&gt;</a:t>
            </a:fld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257A96-4592-4D16-B492-339636D955F7}" type="slidenum">
              <a:t>&lt;#&gt;</a:t>
            </a:fld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43622B8-DCC1-4837-8092-88AF4A05D11F}" type="slidenum">
              <a:t>&lt;#&gt;</a:t>
            </a:fld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F9FB52-9EBC-46F5-B65F-DF05885B47F6}" type="slidenum">
              <a:t>&lt;#&gt;</a:t>
            </a:fld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D4454B-21B8-4A9D-A142-3057A24EA9BB}" type="slidenum">
              <a:t>&lt;#&gt;</a:t>
            </a:fld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9479CED-E42E-4DD3-B601-6F0182FCE079}" type="slidenum">
              <a:t>&lt;#&gt;</a:t>
            </a:fld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7047E4-5A7D-44AE-ACEF-784E57DA8A59}" type="slidenum">
              <a:t>&lt;#&gt;</a:t>
            </a:fld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B65BA1-C0A4-45F2-89C1-163860693A18}" type="slidenum">
              <a:t>&lt;#&gt;</a:t>
            </a:fld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0F7B853-92AF-479B-9A86-5EDFCE6C6D32}" type="slidenum">
              <a:t>&lt;#&gt;</a:t>
            </a:fld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61490CC-45A8-42CF-86AB-A19D1447EE3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9EED5-90A5-4EF4-98B5-5B6FAF6BE24B}" type="slidenum">
              <a:t>&lt;#&gt;</a:t>
            </a:fld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8D0A5B-CBB8-48E5-9E83-F787DEC8DA5E}" type="slidenum">
              <a:t>&lt;#&gt;</a:t>
            </a:fld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DF492E-B66F-4DAF-91F2-9C71320C5D6E}" type="slidenum">
              <a:t>&lt;#&gt;</a:t>
            </a:fld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5AEEABD-23EE-483D-9FA9-0990C6E8CCA0}" type="slidenum">
              <a:t>&lt;#&gt;</a:t>
            </a:fld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4CC50F0-C77C-4786-A9F0-5FA0FB5D089E}" type="slidenum">
              <a:t>&lt;#&gt;</a:t>
            </a:fld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CBAF519-D3F4-4FAE-BBBA-5DAD0D9DE929}" type="slidenum">
              <a:t>&lt;#&gt;</a:t>
            </a:fld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F615698-9C82-48F5-9A83-4FEA120E5718}" type="slidenum">
              <a:t>&lt;#&gt;</a:t>
            </a:fld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99A8881-05D7-49E4-A34D-5F143B32A9F2}" type="slidenum">
              <a:t>&lt;#&gt;</a:t>
            </a:fld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371376E-02E8-491E-8473-3F908B0DA16C}" type="slidenum">
              <a:t>&lt;#&gt;</a:t>
            </a:fld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AC5E609-98EA-41B4-8786-F272394417E8}" type="slidenum">
              <a:t>&lt;#&gt;</a:t>
            </a:fld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2410BB1-BAE7-4C87-9217-8CA427344EC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2C33E-28BB-4D69-A761-15E8B86BDA5C}" type="slidenum">
              <a:t>&lt;#&gt;</a:t>
            </a:fld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60E86CE-D690-45EC-8833-5B7C17FC69DD}" type="slidenum">
              <a:t>&lt;#&gt;</a:t>
            </a:fld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8137B07-D87E-4E8B-8DA8-952E18530884}" type="slidenum">
              <a:t>&lt;#&gt;</a:t>
            </a:fld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A048CF4-14DD-44DB-8D88-0FC953FF2FE5}" type="slidenum">
              <a:t>&lt;#&gt;</a:t>
            </a:fld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2337374-6554-4DCE-B775-F1E2BBD4B378}" type="slidenum">
              <a:t>&lt;#&gt;</a:t>
            </a:fld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D40B506-0600-4A13-A341-4A131DBF5654}" type="slidenum">
              <a:t>&lt;#&gt;</a:t>
            </a:fld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0259335-5E72-4B53-8A85-85385739C8B9}" type="slidenum">
              <a:t>&lt;#&gt;</a:t>
            </a:fld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35CE515-4CC1-4FEC-A6A3-17023A23CE80}" type="slidenum">
              <a:t>&lt;#&gt;</a:t>
            </a:fld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DE0EB3F-2D6F-403B-AC79-33C98EF97EFC}" type="slidenum">
              <a:t>&lt;#&gt;</a:t>
            </a:fld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AF4F798-EFC2-4D47-A973-6750CC8F6FA4}" type="slidenum">
              <a:t>&lt;#&gt;</a:t>
            </a:fld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1115DCE-F7B0-4C97-98FD-9F098EB7817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0E5D4-B9E3-49D9-B8C8-9F0382968E80}" type="slidenum">
              <a:t>&lt;#&gt;</a:t>
            </a:fld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071EDB9-9F13-42C2-A242-B6B2001AFFFD}" type="slidenum">
              <a:t>&lt;#&gt;</a:t>
            </a:fld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29F02E4-97F1-4197-A700-11F554D0B6A3}" type="slidenum">
              <a:t>&lt;#&gt;</a:t>
            </a:fld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5819F02-59EA-40E0-A5F5-699E997D2314}" type="slidenum">
              <a:t>&lt;#&gt;</a:t>
            </a:fld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919ED7E-2124-44F1-9796-0260AD83EAE0}" type="slidenum">
              <a:t>&lt;#&gt;</a:t>
            </a:fld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0F7745C-08A5-4874-AF7A-1A0D6C6F9D12}" type="slidenum">
              <a:t>&lt;#&gt;</a:t>
            </a:fld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8AAAD3E-C719-4A4D-9C69-6C125360850A}" type="slidenum">
              <a:t>&lt;#&gt;</a:t>
            </a:fld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5D1AD0D-AEC5-479B-B089-191990FD98CF}" type="slidenum">
              <a:t>&lt;#&gt;</a:t>
            </a:fld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C2FF783-DF59-4E97-966C-FDBCCEC82305}" type="slidenum">
              <a:t>&lt;#&gt;</a:t>
            </a:fld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A25477-A27D-40AE-BF3B-7986945F8F4F}" type="slidenum">
              <a:t>&lt;#&gt;</a:t>
            </a:fld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5FC4AF5-4F91-4666-9280-8F6567ADC8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6B5A-37E1-42C5-938E-D1939DE797F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73A57-990E-45ED-9B65-D18DD65B81AA}" type="slidenum">
              <a:t>&lt;#&gt;</a:t>
            </a:fld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97457E-4A63-449A-B1BD-CE8D0E8C7BD4}" type="slidenum">
              <a:t>&lt;#&gt;</a:t>
            </a:fld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4B5121E-317B-4C4E-B01D-D0F46C3139E0}" type="slidenum">
              <a:t>&lt;#&gt;</a:t>
            </a:fld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8FD9A57-F575-4473-94C6-0EA478A9632B}" type="slidenum">
              <a:t>&lt;#&gt;</a:t>
            </a:fld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63DD249-9334-4A22-9E5D-6E2ACAC7FEA9}" type="slidenum">
              <a:t>&lt;#&gt;</a:t>
            </a:fld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3E3E6E-3B2D-400D-9584-DB9ABE290761}" type="slidenum">
              <a:t>&lt;#&gt;</a:t>
            </a:fld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FB3BAC6-1AB9-45EC-8D3F-FA4519FAF45D}" type="slidenum">
              <a:t>&lt;#&gt;</a:t>
            </a:fld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A113F97-3947-4678-8366-4400DFFA482C}" type="slidenum">
              <a:t>&lt;#&gt;</a:t>
            </a:fld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3F1E24-DD17-4623-BE52-E6C8257D5389}" type="slidenum">
              <a:t>&lt;#&gt;</a:t>
            </a:fld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41D172-0B32-41F4-B7E2-E8DD173B187B}" type="slidenum">
              <a:t>&lt;#&gt;</a:t>
            </a:fld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8DB6175-D7CB-4A9D-A454-3E673C88526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2533F-7862-477D-BB19-A2ADDDBE8C72}" type="slidenum">
              <a:t>&lt;#&gt;</a:t>
            </a:fld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4B26B34-55D4-4843-9D8B-6AA57AE9C768}" type="slidenum">
              <a:t>&lt;#&gt;</a:t>
            </a:fld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C69EA3D-0F12-43A6-A4B4-E5E98CBD6BE4}" type="slidenum">
              <a:t>&lt;#&gt;</a:t>
            </a:fld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B5525D7-3F9D-46C0-A703-179363DCF83F}" type="slidenum">
              <a:t>&lt;#&gt;</a:t>
            </a:fld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DD7A10A-4CF1-4E96-96FC-25556A649CC5}" type="slidenum">
              <a:t>&lt;#&gt;</a:t>
            </a:fld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7655FDC-B337-4194-8136-680B3A5757D9}" type="slidenum">
              <a:t>&lt;#&gt;</a:t>
            </a:fld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E12BE5B-D59E-4A6A-8694-1C71FD96ACE6}" type="slidenum">
              <a:t>&lt;#&gt;</a:t>
            </a:fld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DC80507-2AA7-496B-8986-6DA67199D0F6}" type="slidenum">
              <a:t>&lt;#&gt;</a:t>
            </a:fld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DC3CEA1-9124-4B3D-B56E-1BDF4E019402}" type="slidenum">
              <a:t>&lt;#&gt;</a:t>
            </a:fld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4F93FE4-DDAD-49DA-ADB3-31A49BEB7ADB}" type="slidenum">
              <a:t>&lt;#&gt;</a:t>
            </a:fld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CD96DDB-E982-4296-AAA7-66BDE71FF4E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3EB3C-A2A3-478F-B1A2-8501CC7BDB02}" type="slidenum">
              <a:t>&lt;#&gt;</a:t>
            </a:fld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45B99E5-6AC9-4003-AF71-22689EC9B3F5}" type="slidenum">
              <a:t>&lt;#&gt;</a:t>
            </a:fld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1AA0938-A9BE-48F4-B4CB-781D4593075E}" type="slidenum">
              <a:t>&lt;#&gt;</a:t>
            </a:fld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7EC0FE0-B629-41FC-9049-77FFD09CE638}" type="slidenum">
              <a:t>&lt;#&gt;</a:t>
            </a:fld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F651122-BAB7-4676-BF28-B5B153145DDC}" type="slidenum">
              <a:t>&lt;#&gt;</a:t>
            </a:fld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9F2484B-D092-419B-AD16-5CAE841351F7}" type="slidenum">
              <a:t>&lt;#&gt;</a:t>
            </a:fld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99279DD-2EA8-4375-BB4E-3A7CAC6EF1FB}" type="slidenum">
              <a:t>&lt;#&gt;</a:t>
            </a:fld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BFA45D1-D233-43E8-B9B9-6BB9607D6D6B}" type="slidenum">
              <a:t>&lt;#&gt;</a:t>
            </a:fld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62B49F7-3FAB-436A-832A-0E76CB242D49}" type="slidenum">
              <a:t>&lt;#&gt;</a:t>
            </a:fld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3360012-0895-45DE-9751-1C650BE5A063}" type="slidenum">
              <a:t>&lt;#&gt;</a:t>
            </a:fld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7CD620E-4456-4182-8FBC-85029A229B6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E6E85-C8F0-4778-980F-4AE8F47CA2BF}" type="slidenum">
              <a:t>&lt;#&gt;</a:t>
            </a:fld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D3CB067-4FA1-419C-96D0-72712A6D7624}" type="slidenum">
              <a:t>&lt;#&gt;</a:t>
            </a:fld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ECD9551-E2A5-45D1-9B26-1804EEF37138}" type="slidenum">
              <a:t>&lt;#&gt;</a:t>
            </a:fld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7D2240C-2447-4DEB-BBD3-A79980866CB8}" type="slidenum">
              <a:t>&lt;#&gt;</a:t>
            </a:fld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DD4C92-4CAC-42D6-BFB5-09BC108C8921}" type="slidenum">
              <a:t>&lt;#&gt;</a:t>
            </a:fld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8B8AD59-4863-46A1-A744-8AE58107A845}" type="slidenum">
              <a:t>&lt;#&gt;</a:t>
            </a:fld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E5055C-1F4B-474D-81DE-FC88C06C2C7D}" type="slidenum">
              <a:t>&lt;#&gt;</a:t>
            </a:fld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CCC4EA7-9C6E-480A-BB63-5B010FC80436}" type="slidenum">
              <a:t>&lt;#&gt;</a:t>
            </a:fld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95BC62E-2BA1-4010-8713-0A9E2D8F8788}" type="slidenum">
              <a:t>&lt;#&gt;</a:t>
            </a:fld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E08E9C-809C-4C81-AE69-BE9AC44A174A}" type="slidenum">
              <a:t>&lt;#&gt;</a:t>
            </a:fld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3EAB12-D558-4F98-99EE-A13A11A8963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ADBEE-87B2-43D2-9623-F2C4444EE29A}" type="slidenum">
              <a:t>&lt;#&gt;</a:t>
            </a:fld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8EB66C0-6D7E-4B45-A364-E4108F0DDADC}" type="slidenum">
              <a:t>&lt;#&gt;</a:t>
            </a:fld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A281990-3D6F-48AE-A116-F01EA1107032}" type="slidenum">
              <a:t>&lt;#&gt;</a:t>
            </a:fld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F98364D-6B93-4CF9-9F29-2E3A7D8F4B37}" type="slidenum">
              <a:t>&lt;#&gt;</a:t>
            </a:fld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801D42-2269-4C3D-8093-4CDF7C009985}" type="slidenum">
              <a:t>&lt;#&gt;</a:t>
            </a:fld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4FF64F9-F68F-4A10-A192-4FF88B714CDA}" type="slidenum">
              <a:t>&lt;#&gt;</a:t>
            </a:fld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A763586-3FB5-4FF3-9C5D-27E1AFB0D9D1}" type="slidenum">
              <a:t>&lt;#&gt;</a:t>
            </a:fld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1C8692A-C16C-459F-B236-BFE5131D15F3}" type="slidenum">
              <a:t>&lt;#&gt;</a:t>
            </a:fld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34720AE-3446-41FA-9750-67EA09B81970}" type="slidenum">
              <a:t>&lt;#&gt;</a:t>
            </a:fld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55F0E78-E45E-4595-94AD-A6CCE809C355}" type="slidenum">
              <a:t>&lt;#&gt;</a:t>
            </a:fld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BF0CD8C-B60C-4657-AB10-65B96B10F26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B93F7-4D21-4C95-94BA-291129D372E4}" type="slidenum">
              <a:t>&lt;#&gt;</a:t>
            </a:fld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841F6AE-E6A0-4F45-8DB0-138759AADFC5}" type="slidenum">
              <a:t>&lt;#&gt;</a:t>
            </a:fld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CB9ADCD-96C8-4B11-AA92-141B46FDAF5E}" type="slidenum">
              <a:t>&lt;#&gt;</a:t>
            </a:fld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DCB31A2-9CCF-47C6-9394-06ADBC516062}" type="slidenum">
              <a:t>&lt;#&gt;</a:t>
            </a:fld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552A7CA-8A39-4FC0-BCB2-96E05FEB4327}" type="slidenum">
              <a:t>&lt;#&gt;</a:t>
            </a:fld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5BEC211-B8D3-4A59-94FA-9DE8B9C7EAAB}" type="slidenum">
              <a:t>&lt;#&gt;</a:t>
            </a:fld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D240AAF-69B5-456A-8A25-B7899BB34086}" type="slidenum">
              <a:t>&lt;#&gt;</a:t>
            </a:fld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13B8A2F-6D74-4EF4-AF96-4F01675764D8}" type="slidenum">
              <a:t>&lt;#&gt;</a:t>
            </a:fld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AE57BD0-5D39-4284-B280-4FE708B9A775}" type="slidenum">
              <a:t>&lt;#&gt;</a:t>
            </a:fld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8943B5C-D212-4D38-95FF-DDC354C43668}" type="slidenum">
              <a:t>&lt;#&gt;</a:t>
            </a:fld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4D16637-A26D-4EDE-9825-488A0D3DFB7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3BBD1-879B-4278-B28E-0E0DE57D4E6F}" type="slidenum">
              <a:t>&lt;#&gt;</a:t>
            </a:fld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FC1852B-EFBD-4D11-9FBD-8C4442A8C76A}" type="slidenum">
              <a:t>&lt;#&gt;</a:t>
            </a:fld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B458EC1-99D3-460F-A6C5-CC3C155623BF}" type="slidenum">
              <a:t>&lt;#&gt;</a:t>
            </a:fld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6D75A0B-0B4A-4A19-9D47-8363D958211F}" type="slidenum">
              <a:t>&lt;#&gt;</a:t>
            </a:fld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4C77782-AD11-451F-BE1F-E53426F2D2FB}" type="slidenum">
              <a:t>&lt;#&gt;</a:t>
            </a:fld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08D2969-3233-409A-8116-8C05FCB556B4}" type="slidenum">
              <a:t>&lt;#&gt;</a:t>
            </a:fld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10977B8-17DA-4861-B7A0-CA7466F5B9B0}" type="slidenum">
              <a:t>&lt;#&gt;</a:t>
            </a:fld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6F6DC4A-1F6E-4629-B71F-F41A57C9C37F}" type="slidenum">
              <a:t>&lt;#&gt;</a:t>
            </a:fld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79E53AD-6FB1-42D1-A2CF-0F1177B06D0C}" type="slidenum">
              <a:t>&lt;#&gt;</a:t>
            </a:fld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A1100D0-1A14-467D-9B24-14A6F982C13E}" type="slidenum">
              <a:t>&lt;#&gt;</a:t>
            </a:fld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848955-5270-44F1-A1BD-6A97FBE47FF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80B19-E0F6-4EAD-BD15-334C882592AC}" type="slidenum">
              <a:t>&lt;#&gt;</a:t>
            </a:fld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F3DDF3B-E8AB-4C9E-9B71-67BDFD5AE83C}" type="slidenum">
              <a:t>&lt;#&gt;</a:t>
            </a:fld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84D7D21-38F4-4B2E-808B-6E6E1BE59750}" type="slidenum">
              <a:t>&lt;#&gt;</a:t>
            </a:fld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2F855F-82D8-4647-BC4A-39956A50997D}" type="slidenum">
              <a:t>&lt;#&gt;</a:t>
            </a:fld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D75521-495C-4260-802C-BFB8BFE6D7DB}" type="slidenum">
              <a:t>&lt;#&gt;</a:t>
            </a:fld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D9BC81B-0426-48D3-8114-0F0303A2B859}" type="slidenum">
              <a:t>&lt;#&gt;</a:t>
            </a:fld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3F9336-FA97-4F92-956E-90575032784A}" type="slidenum">
              <a:t>&lt;#&gt;</a:t>
            </a:fld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A32BA86-F596-4007-94E6-F6B4B597FEE2}" type="slidenum">
              <a:t>&lt;#&gt;</a:t>
            </a:fld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5D0D8FE-A359-4B09-BB93-5CB60ACED3B0}" type="slidenum">
              <a:t>&lt;#&gt;</a:t>
            </a:fld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B7473A-413B-417F-897F-2F291BDD1070}" type="slidenum">
              <a:t>&lt;#&gt;</a:t>
            </a:fld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CB45CDC-3349-4FAE-8981-67439B55460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84792-3625-4F1E-B2F1-5F094B54C80C}" type="slidenum">
              <a:t>&lt;#&gt;</a:t>
            </a:fld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A06C959-2B21-4835-9101-73E13CA8B30E}" type="slidenum">
              <a:t>&lt;#&gt;</a:t>
            </a:fld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E83F421-441F-434D-A9F2-BFF58FC7922C}" type="slidenum">
              <a:t>&lt;#&gt;</a:t>
            </a:fld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D81DF3E-5C86-4FD3-B297-98CFC9129D52}" type="slidenum">
              <a:t>&lt;#&gt;</a:t>
            </a:fld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FA0E404-95DF-41B0-9593-12D4F49C0E42}" type="slidenum">
              <a:t>&lt;#&gt;</a:t>
            </a:fld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4414CA9-451A-42E1-8CA7-1AA27BAF62B3}" type="slidenum">
              <a:t>&lt;#&gt;</a:t>
            </a:fld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9C49F16-CC90-4BD4-A2B8-CDB76CAFD5BB}" type="slidenum">
              <a:t>&lt;#&gt;</a:t>
            </a:fld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6A3EA2A-46E7-4B41-943D-62DC312EBDB4}" type="slidenum">
              <a:t>&lt;#&gt;</a:t>
            </a:fld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BC5447E-E00C-43FA-AB3D-F0834EA1DB9E}" type="slidenum">
              <a:t>&lt;#&gt;</a:t>
            </a:fld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54EA748-9F4C-4F1B-987E-0B16934FA9AD}" type="slidenum">
              <a:t>&lt;#&gt;</a:t>
            </a:fld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4E7FA4A-DB81-4981-B71E-72EE1A6689F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B2595-8096-4CA9-A4FF-4858E64F8F7C}" type="slidenum">
              <a:t>&lt;#&gt;</a:t>
            </a:fld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AB17465-67AB-4647-9479-AAAB6C70581E}" type="slidenum">
              <a:t>&lt;#&gt;</a:t>
            </a:fld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384C861-EDFE-4294-8724-98424D437A92}" type="slidenum">
              <a:t>&lt;#&gt;</a:t>
            </a:fld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C501DE5-263A-44D8-B27D-DD317C0175A7}" type="slidenum">
              <a:t>&lt;#&gt;</a:t>
            </a:fld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DAD5FCA-BB7E-4657-8036-AB65E744DB47}" type="slidenum">
              <a:t>&lt;#&gt;</a:t>
            </a:fld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1660D89-8A88-46E0-8D56-080CF278A34D}" type="slidenum">
              <a:t>&lt;#&gt;</a:t>
            </a:fld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7E3A603-741A-4E1C-BF6C-F4CD8CE24CD8}" type="slidenum">
              <a:t>&lt;#&gt;</a:t>
            </a:fld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CD6FE64-7192-41AA-9033-A07D2E94AC3F}" type="slidenum">
              <a:t>&lt;#&gt;</a:t>
            </a:fld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1C15E6E-4416-47E5-BBA5-62C86CFD9009}" type="slidenum">
              <a:t>&lt;#&gt;</a:t>
            </a:fld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04AD1E0-195B-429E-AAC7-EBF3AA96E960}" type="slidenum">
              <a:t>&lt;#&gt;</a:t>
            </a:fld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9987F3B-C1B7-4560-803A-BDEF91AAC0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F8DD8-00B7-40C5-B4AE-C9BBBA2830E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308506-78F6-4C0F-81C9-EBFE2040DED0}" type="slidenum">
              <a:t>&lt;#&gt;</a:t>
            </a:fld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DA79555-4E60-49BF-B9B0-C618A67CFE71}" type="slidenum">
              <a:t>&lt;#&gt;</a:t>
            </a:fld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6169F14-38FE-4E4B-8B47-D015FE187C0C}" type="slidenum">
              <a:t>&lt;#&gt;</a:t>
            </a:fld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9D9FE40-DE7D-4B5D-9618-663DD5424BFD}" type="slidenum">
              <a:t>&lt;#&gt;</a:t>
            </a:fld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655CDC2-2E27-4EE0-BB4D-90FA39E22A38}" type="slidenum">
              <a:t>&lt;#&gt;</a:t>
            </a:fld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D7EC09F-C875-4ED2-92D6-43F3EAFF4A0A}" type="slidenum">
              <a:t>&lt;#&gt;</a:t>
            </a:fld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A698604-8B1C-445D-994B-575B4017B863}" type="slidenum">
              <a:t>&lt;#&gt;</a:t>
            </a:fld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8C87450-A410-49A8-A28A-B8153C04E95B}" type="slidenum">
              <a:t>&lt;#&gt;</a:t>
            </a:fld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EE4B89C-7407-4684-B230-DFE51F02EF2F}" type="slidenum">
              <a:t>&lt;#&gt;</a:t>
            </a:fld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7DD18EA-93B2-40E1-BB4B-2F82108B9247}" type="slidenum">
              <a:t>&lt;#&gt;</a:t>
            </a:fld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24DFF0-5B83-4037-86BE-F021FB3D612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00B346-B34D-4E6E-A469-018ADFC0D888}" type="slidenum">
              <a:t>&lt;#&gt;</a:t>
            </a:fld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871895-5107-49B1-92E6-A63CBDC7C69A}" type="slidenum">
              <a:t>&lt;#&gt;</a:t>
            </a:fld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34F50F7-48C1-4379-942B-2E9EAFBBCE53}" type="slidenum">
              <a:t>&lt;#&gt;</a:t>
            </a:fld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6FA502-6377-416C-8D34-5FCE502B83B4}" type="slidenum">
              <a:t>&lt;#&gt;</a:t>
            </a:fld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023915D-BE5E-46D4-B903-163DF85CFA91}" type="slidenum">
              <a:t>&lt;#&gt;</a:t>
            </a:fld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7203FFD-6D37-4843-A8EA-D99A2B943C7F}" type="slidenum">
              <a:t>&lt;#&gt;</a:t>
            </a:fld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BD6081-6582-4D21-A5D2-B8BDDB7CC20B}" type="slidenum">
              <a:t>&lt;#&gt;</a:t>
            </a:fld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31BDE6B-5B84-41D6-BF9E-F5557A12EF40}" type="slidenum">
              <a:t>&lt;#&gt;</a:t>
            </a:fld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B7CE01B-BA28-44C6-A17C-93826A8B79E7}" type="slidenum">
              <a:t>&lt;#&gt;</a:t>
            </a:fld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A0A7D6B-3E75-422D-9269-3F85902A4D02}" type="slidenum">
              <a:t>&lt;#&gt;</a:t>
            </a:fld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93A1F5A-2AFF-4C5C-A0D4-ADEDA654DCF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0642AF-2E08-4480-B383-2C6F4D008BF8}" type="slidenum">
              <a:t>&lt;#&gt;</a:t>
            </a:fld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860E2F1-F74C-4DE4-A7AF-908F24A4FE05}" type="slidenum">
              <a:t>&lt;#&gt;</a:t>
            </a:fld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6A8F0F7-FC78-42EC-8852-D3EB4E84DF17}" type="slidenum">
              <a:t>&lt;#&gt;</a:t>
            </a:fld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3A424EC-EB71-420D-9299-B166D556C861}" type="slidenum">
              <a:t>&lt;#&gt;</a:t>
            </a:fld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51569A2-71F5-43FB-BEE8-9853135A54E0}" type="slidenum">
              <a:t>&lt;#&gt;</a:t>
            </a:fld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B644B0B-C5FF-44EF-AA85-A126BD1ECB86}" type="slidenum">
              <a:t>&lt;#&gt;</a:t>
            </a:fld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F5615B9-FA5A-44E6-8BA2-51B8D1518761}" type="slidenum">
              <a:t>&lt;#&gt;</a:t>
            </a:fld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752D48E-7F00-4E50-938B-A2CE1126BC21}" type="slidenum">
              <a:t>&lt;#&gt;</a:t>
            </a:fld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FD6B5BC-E285-449B-B64B-190D7D632FA0}" type="slidenum">
              <a:t>&lt;#&gt;</a:t>
            </a:fld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0D14140-59FC-461C-BAB0-3190F821F095}" type="slidenum">
              <a:t>&lt;#&gt;</a:t>
            </a:fld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65047C5-6BD8-4AE2-9D2B-0E2069A89DB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CDC71-6AF4-4306-AFEE-048F7DC79989}" type="slidenum">
              <a:t>&lt;#&gt;</a:t>
            </a:fld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7660272-C380-4BBB-B172-F0BE031172C8}" type="slidenum">
              <a:t>&lt;#&gt;</a:t>
            </a:fld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DD648CC-F633-444B-BF53-842F71A58B96}" type="slidenum">
              <a:t>&lt;#&gt;</a:t>
            </a:fld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805925D-CFA9-4798-934E-A9A57B8CE42C}" type="slidenum">
              <a:t>&lt;#&gt;</a:t>
            </a:fld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11B7151-6956-46ED-9C21-8CA8484C6278}" type="slidenum">
              <a:t>&lt;#&gt;</a:t>
            </a:fld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DDB2F59-3779-499C-AC04-007E4D478CEB}" type="slidenum">
              <a:t>&lt;#&gt;</a:t>
            </a:fld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35F6F13-9324-4069-A549-088DCC263C8C}" type="slidenum">
              <a:t>&lt;#&gt;</a:t>
            </a:fld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BB94AE3-92DE-4D4B-9CB3-1CB0C4148355}" type="slidenum">
              <a:t>&lt;#&gt;</a:t>
            </a:fld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3A2A717-EE6B-4696-81E8-3FABFAE17742}" type="slidenum">
              <a:t>&lt;#&gt;</a:t>
            </a:fld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31BAC87-4515-46C5-862E-1B3FBDFDBCB9}" type="slidenum">
              <a:t>&lt;#&gt;</a:t>
            </a:fld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7072AD2-F7FB-4681-BF79-2A0F3D1C352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18C879-91BF-4278-B7B3-F50E2B8CCB03}" type="slidenum">
              <a:t>&lt;#&gt;</a:t>
            </a:fld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7B5F532-C2EE-43C7-BA26-B2507BBAEA3D}" type="slidenum">
              <a:t>&lt;#&gt;</a:t>
            </a:fld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1A40F47-6B96-43AC-8EE8-F0A52711A9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B120B4A-158E-470F-80F9-67072470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9D4A116-4AF8-4877-BD56-F35B454F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2A5C3FA-38FC-46AB-8F97-831EFFBF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87AD25B-A97D-4DDC-9D97-DBBE0FAD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2836BE7-74A3-4776-804C-988F45F3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F32C7D5-54C7-4522-BA02-5B2C0353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C7813EC-6C2B-45EC-921C-37BC4F8B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B8C10E9-584C-4EB5-A24B-F5D3E215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3FB89D-C754-4649-AF85-71B93FD1902A}" type="slidenum">
              <a:t>&lt;#&gt;</a:t>
            </a:fld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DC9DAC5-6774-4363-B0F0-370DDEC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A204F3F-530A-406D-AFB4-CD3DDCC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A00DDA4-0F99-4E2D-AC89-2798F4E395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36F1D55-BE34-4567-A7EF-DF08F74221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4D4C8DF-03BB-49DE-8AA7-68008044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542F4C2-BD84-43EF-BEA2-B3FCCF97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CE148E2-6D77-4F7B-9706-BA96FFE2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0CF96B-DF0F-4890-9080-6BC42753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77C1CC7-7981-4E84-8B5A-ACB1CCDA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39DA9CD-2C51-4C8B-BB1C-B2ADAB3D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9223A8-1AB6-499F-AB85-28D5D632E8E6}" type="slidenum">
              <a:t>&lt;#&gt;</a:t>
            </a:fld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C89FE61-3C91-4902-9110-BC3A3634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122835E-8DE6-45A7-85DB-02BF81D6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C29D5F-6253-4712-8BA9-3E4817A9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637CCFB-20F6-45C7-B3F8-F113AB0D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5C140AB-26BE-41FD-9B63-7613800772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1E19B6A-D15B-4A37-A994-E11138FFC6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CF28AA9-B69B-4250-97CC-C93BAA0E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662DD68-262C-4F1F-BD58-D81DBEBC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68E063C-2A9E-43AA-B372-882AA117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446829E-6919-4F1B-AA1C-EECAC911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2E99BC-54F1-489D-A8B4-EC221EF1FDBE}" type="slidenum">
              <a:t>&lt;#&gt;</a:t>
            </a:fld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B38ACE8-7F83-431A-8DEC-B69E151F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45E127C-0F70-4966-8A9A-D1CFBCA7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644ABE0-8734-487E-B5D8-8099FC17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5E2D799-5AD0-43DC-993E-B15F4258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C1B9BBF-1BAD-44D2-811C-C00C725B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A556B2C-AB16-4D09-A3F4-8114F6F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8CE904D-7D18-4F3D-A055-8DF73618C0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56C0F2A-D4BF-4924-A1B9-10FC1E3134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36FD650-AA67-4777-A23F-1F1237CB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2D9AC94-7AD3-4DDD-9920-C4081D69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1D2FCF-323D-48FB-92CB-0C9063377D39}" type="slidenum">
              <a:t>&lt;#&gt;</a:t>
            </a:fld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EF0F70F-ADE6-499E-BCC8-0E990F81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80063E1-6D35-4711-890B-0FC24E3E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E931417-8FAD-4FAF-A7EA-B684F5B9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DAB7E87-4E46-475E-9EA9-07E2B2F4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0B34717-005B-4E19-91EA-BE2105EF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31E7AD6-91D6-4347-97C4-01B36B0A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7E640D0-6965-4C7A-97FB-7DBEBAC4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3D96D65-4860-4FE2-B4B5-3F87DDE2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B47D391-2D95-4CF1-84E1-245507DF22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4A14093-9469-4931-8032-66874A03AB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3460A-320F-48D2-BFB2-9BFEBC3006A2}" type="slidenum">
              <a:t>&lt;#&gt;</a:t>
            </a:fld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141E839-A5D9-4874-BCBB-E8FC50C4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D7089A7-C6D5-48DC-A71A-F2D31EE6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A5000EC-25FA-4E4E-9BA5-4CA31495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45A68C7-477A-4B61-965F-59A3C531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A5A8EA1-13B6-407E-9A71-2C705011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92F19B9-D555-4EE4-AA5C-E7FEF892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83424FF-D8EA-46B1-A38F-6402C45F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383BE6C-57FC-4CB4-BC70-7EF2C07C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650F7A7-B943-4D3D-9C24-E4FE94B9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85B13D-D745-4CA7-9E60-47B7087B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B439-7F68-479A-ACCA-E1CB56C9B6C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CE2E7B-B131-4E13-839F-7EBB6E28CA1E}" type="slidenum">
              <a:t>&lt;#&gt;</a:t>
            </a:fld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2591510-5591-41BF-ACA7-EC6B1A796D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D54FA60-A19D-4B1A-B22A-5EBEC3D04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2CC32DE-1178-4350-978C-A86CA979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868E1EC-68D0-46F1-86D3-E9BEE873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07EA664-C64C-4A72-90BA-4AAFB15F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932257C-3E94-44DB-9429-CEEEF5C2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40CE963-C3AE-4F02-B3D1-3F0C2299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701E0B27-E484-4F42-A5C2-80B4241C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9FBD9DA-C942-4BD0-8ED6-081D3E11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29B3E19-7BDB-4B43-A1C1-2FFCD98C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E4153-5D89-4EB4-B476-81C9E6514487}" type="slidenum">
              <a:t>&lt;#&gt;</a:t>
            </a:fld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0EE0845-4102-4A98-9FA9-255DE38E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7135FFAF-1474-439D-9006-E6070045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88EB719-E1AA-4DD5-816A-5CFFF6A825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D57E8A7-9265-4A1E-B389-184D429BF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4470406-7F5B-4085-858B-F7ED6474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7D7F5F6-7007-44AA-8044-3428379F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5E82A7A-71AF-4E24-9C02-6E8F6401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4E6F04D-A885-478D-8E56-F5D595BE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FF7603E-0132-434F-801D-512E1040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9FB1DF3-BEAF-4041-B751-43C55AAD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4D000-FC26-46F0-A5E0-FCFD6238416F}" type="slidenum">
              <a:t>&lt;#&gt;</a:t>
            </a:fld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DED1344-AD5F-4407-B069-C6BB3C21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B9AF6DE-6F90-4930-B575-44781C62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4F97C54-FCB1-4950-81BD-DBF7CE51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BFC1579-4D2C-47D2-848D-7A02AB3F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A48FDE9-5FA9-4132-BC3B-AA90F86100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E186DDA-0EBE-4F30-81E7-17120276E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648CE82-CBB1-4958-805E-820E0F91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248D91E-1F36-4429-997E-3358B15C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E6701F-7F5C-4EAD-AADA-A7D3B595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D6F18FD-0448-4E65-9F5D-06DD1A04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4CF7D-02B3-47FF-9710-647C662EC49A}" type="slidenum">
              <a:t>&lt;#&gt;</a:t>
            </a:fld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8E4E6D7-86F6-41CA-BDC3-7A5AFA7A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153299B-9A7C-4543-968A-557D61AA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81D3D73-B739-461C-B163-1D1C97C1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C6FB047-2193-4799-B982-A8474565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C7BF42D-973F-467D-9828-2F2688B3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54BB1CD-B8D6-44A6-81A2-5B56349B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7AD3240-3E71-46E4-AB37-08AD976975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A6A57530-FED8-45D1-BEDE-203ECAC1A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82929D2-0948-4EFF-ADB1-A4CA9D6C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718E3C4F-8939-4B8C-9393-D5FD6A6C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487AC-9CA4-43F2-8425-22E2EC118E59}" type="slidenum">
              <a:t>&lt;#&gt;</a:t>
            </a:fld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570EEA3-A1E7-4A91-A66E-4199BA8F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AA866E52-1838-4285-85F0-38F883EB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D6B1A0E-FE78-4FAF-B1F3-EB0853E1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9EB1E72-BA6F-4E70-B42F-09EFC8B3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38FFE47-0FED-4612-A2A6-F25DF203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5D9DA41-0ABB-409D-A88A-02266FBF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EDF3F1F-95F6-450C-B298-E60E6AA8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67897E1-5ADB-4878-A992-E629BB2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ADC21C4-B612-481A-8D2B-6894F4C79F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C7E91A4-6318-4AAD-A226-CEF5FA3D9F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89210-C258-48F2-AC01-D11CDA06D4D8}" type="slidenum">
              <a:t>&lt;#&gt;</a:t>
            </a:fld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2870C4D-8D1C-424C-9334-A03CD6F2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9D1B98F-3C0D-476B-B025-2D95FBDB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7CCA237-48FB-40A5-BC99-8AD9BE45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E2CDE25-2515-4F65-AE2E-BC294FF1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B89A9CE-FB81-45C7-A702-E93BE024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028D679-D5A3-40D1-B093-9862C3A1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9CB233C-1A96-403B-8C72-1E3DF5E6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9E1597D-797A-48AD-914B-AC67F88D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AC35C7F-4C48-4951-BAFE-9F9E22CC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DB70E7B-A188-4C2A-9EE2-9BCED177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0F20C-DCA0-40F7-8AE8-5BD64A5B2E35}" type="slidenum">
              <a:t>&lt;#&gt;</a:t>
            </a:fld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F7170A2-B542-4A76-99CB-17CA6A6385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57D701F-B959-4C3F-932F-E59FBA19CC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6BB2220-6BF9-4F0B-B1F3-DD2464B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551FEEF-9DA1-4F3E-A98C-BC53B1F2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F535A8-D208-464A-8414-991B9874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A80F519-647F-4550-B51A-D902AED9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ED6D408-B9D4-49A2-BF7C-FA61909D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C67F4D9-BDD8-40BD-B165-A510C71C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8DFBEA2-74EE-46AF-BABF-BF5C1014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02F10C2-A6CB-4B5B-AAB4-1FD22C3C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E0BDAD-D7EC-476F-90F4-CEE5DDC2D82A}" type="slidenum">
              <a:t>&lt;#&gt;</a:t>
            </a:fld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7499D60-3CC3-4B01-9BEB-0727C49A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6714799-3FE1-4E1A-90AE-CFEED7C4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CE6683B-7611-4150-A72C-9D22D652CC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E036B-DC91-489E-AC70-65D4883BAA9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740CD-E1FC-43C8-BE4A-79C85072ED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8364-1B96-4139-A11E-03B71901F38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8FBE7-3047-4AE7-A19C-5758DF843C8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BBB65-CD83-432E-97A8-71CFCBCE3E2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7DA3B-2F62-4A4E-9E30-2941C84B8A5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9158-B423-438E-A228-C895024E264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6D85D-1AC0-427A-86DF-D289FF5D991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05051-79CE-4860-A74F-88E3B80652C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C2F53-5DD3-416C-AEB6-76110349726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51EE3-C5B1-45E2-9394-D83BE18C716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CC277-CEE0-46E8-80B3-40223E8C862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B0A4F-C603-41DF-BBC3-19760212BC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6013-4EB5-413C-81B8-ABF2DBF51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1B09-D9AE-4399-A5ED-B3301FAAACC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03D86-0FFC-476E-8E1A-B5EDC2131F9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5A5B0-87FA-483C-A7D9-A28A084B946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EFE7C-495A-4892-943A-255B8A7E32D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F39C2-F711-434E-91B2-C3921B511E5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FAD5A-E3CA-424A-825B-3A5A1B7A26C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E979FD-7C32-4F70-9BEF-C8491A366F1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CA3E6C-8F5D-4D02-BAE0-0F669AAE5C8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5DB7B3-8FA9-4616-ACEE-365ED22C2E1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741BF8-1BFB-43EC-B3DE-CE7AC7224B2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849070-88AA-46D4-B7BC-85EDA7604D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1C23-48C5-4A19-B6F7-240D15BD15E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B9ABAA-A4C5-4DB2-8F04-4D32EA9BC7D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D02D93-1F31-4D03-8496-9F850D520E6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CDDCE2-D118-4B8B-A799-D3C033599B0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8F88C9-192C-4714-8BA5-B1EBFE69383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963944-87DA-44D9-8292-931F95B5026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01D2B3-402D-4DD0-A6A0-D414FC286FE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0BAD77-0EE4-4DB2-B370-5D93AA4E345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4F6B9-5D25-47DB-A64B-8D2D5C45ED4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8C633-9B8C-48FB-9907-406902BC6C8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24025-B73F-45A0-9DB6-316A6E7539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8B15-25D5-4354-9021-5BE8A91FBED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69607-74D1-4F00-ABAF-41C33A2F60C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EA926-CBC7-4BC2-9F03-FA655BCA99C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4CBAD-23F1-4CCB-A5B4-83B755C926D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15B3E-2B51-499D-81CA-2C92FB2751D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DA925-8667-48DC-B4FA-82DE3E50EB1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5EAF7-4B4A-415B-B2AE-3008D14A40B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A9075-D726-4D65-ACEE-06A4375518C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E7037-1FFD-469D-9743-2C20255B4E3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FA0D84-68EB-4E2B-88CC-A5C74810AA0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F3D06-35E6-4D37-AE4E-A497888CA2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5293-DECC-4C07-BFF0-8EF9A3B1EC3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93C78-4785-4924-A747-52547E28D31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8FD01-AED6-4C54-9BBF-E62D040DFAA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C70BE-3087-45BB-B7E6-D0017E784DD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F3001-F062-45D6-803F-126572665A0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82D06-4521-4CD9-B5BB-F5254C88104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7084A-66C8-4B41-AAFC-8D6EDA0382C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E5D91-3B42-46E7-A72E-B8CDCC16AB1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8B7A3-F7F9-4DD4-8521-4DED157A239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23A60-68B0-4A6F-AAA0-57092F92C4D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C9A96-F210-4F2F-B36E-042351B9DA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A345-F4D0-4031-B719-1DBBEDCCFA1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49934-2A88-4C2D-B73E-947F0B2B85F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309DE2-483A-4E6E-A51B-EC95B2EB029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D5B0AA-FDFC-4C04-9D34-13A99D0119C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7DA4B9-0257-4D67-8B08-A5510021075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9C42B6-1698-4A2E-AB1D-39AC284FF66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FF7184-BA48-4732-A3E6-AFC2C3D741D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9EFFD1-8B65-4774-B865-C21B45315F6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0304E7-199C-487D-A872-80C72B0D382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6F4E3C-ED53-4013-816D-D78F9CD00FA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C679B0-64DD-498F-A92F-84C010BB74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130-8422-4090-9008-FFB5BD7AE31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D33744-4748-4C23-8525-903019F31EC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B2CD51-387B-44FB-A923-FEDC192CADA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836B03-D5AD-4168-9CBB-EBDB884483A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4D37A-3FF9-4135-B001-19E900EBC62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F4B4D-43DA-45F8-A749-4FE7AF0B0D2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693BE0-8480-48EE-80D0-B32278083D6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222ED8-1759-4004-A8F3-DC8BBD29A4F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B52932-8AE8-4AAA-ADEC-3BDB646F65C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E1A361-7B59-4A15-8ED3-3191F27DDDF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FE4F4-EE4E-420B-870C-1FDE9EC2CF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E22-E63E-4BC7-9C37-6DE389FDDAD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654C6-3F8E-433B-9A0B-B5D2CD2974C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8C8BF9-CADC-438E-A299-2588376DC2E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5D0F6-1D04-473F-BF19-481EDD01480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56C7DD-B2FB-4807-A8FD-3BE79B23E39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535D5C-E263-4978-9E1F-83619495564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12927-72D8-4A89-A345-6FC82E9CFB6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CC326-BB2C-4CA9-A6A4-C6F46D20F1D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F0348-EE79-49A8-8EF8-8A9688ECA35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19B08-6273-435A-9905-33D134DBD92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F1BD8-1E29-474B-AA87-FC5C7B76EC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63A-4BAC-47FA-B207-9BA0B62BED3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1A206-7ED9-4CFD-92F0-2722044301D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7711F-B76A-4AB3-983F-3893C9311AD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4DF67-B653-4782-BB8A-EB4348CF996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B4AEB-55F1-4B8A-B717-44CEA8C33D2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29789-7E9B-4C67-A0CE-46895A685EA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0F8C8-81C2-4687-9BFD-089FD829E06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AF800-16E8-49A3-B67A-5BDA115D735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2BA2E-D7C4-4EDA-8B9D-D493EAEE2EE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E49D8-BC11-4C78-BF31-D4E23653541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EC716-FA1B-422E-9D30-14EC8FE28B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1E9-1CAA-4EC5-AC66-CD8D8DE1C7F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33FD7-B97B-4F83-BCD9-7A6780B9A03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C371E-90FB-423F-B64C-E611808C8BE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1D040-47E1-48F3-A873-6F8AC119DDC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ACE61-7A9B-480B-B9AE-D95077A0C5D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2D159-0F83-439B-8118-8C0F3F7AB8C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020E4-D5C6-43F3-9F17-2A96F799149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32FC9-E143-4165-BA5B-ADBE6B598F6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05936-1CD9-49AC-9ECD-4CB0B86D8AB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01B0F-46EB-41C7-A5F7-6A8D40FF677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A33E0E-AE53-4579-B87F-AC30E7B4D7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995-45CA-47D0-BBA7-5F59A2FB3D3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B2727-A6B4-4316-8E55-7BAA421AC5F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F12065-7EA8-4A87-8AB7-B8494E462EE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F7A0FF-63EB-49EE-978C-6381F2D1097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156E81-E4A4-4D2B-A134-A7DA2A3E1AA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912379-AA6A-4820-831B-BF50D50D07E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9AB328-D6A6-4E01-98F1-54474BA5FA7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510870-0959-4773-98FC-33FC8E7FF9E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B8CA69-458F-477E-9C2A-613E8A1F64D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0281B6-E9A9-4F9A-AC3C-B607C47F97D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0C6C6A-04DA-46D9-A320-60C18C2BD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4F45-6BCC-4513-81F7-AADF6903F3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9F0-C3CF-4D4A-87E7-F953940D3C5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5AE44D-F423-4EE7-A948-677EE0C006D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5A4B7-D7D6-4317-B33E-467631D2845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7357C-FCE9-4442-9EBE-9FF6E85D7A7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91DFA-BD4B-4DE1-AC76-C4E8EABC26F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5924E-668B-4AD5-977F-C11E5C90CE6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B9E7B-7F5D-40AC-B37D-EBEA4DB2DFF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6FD62-900B-49BC-ACFA-37B33D5C93F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138E2-6B5F-4511-8AF1-59C0B320D23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A5A3F-E8DE-41C2-8A2E-372A673C405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5B934-584B-4B12-BAD9-68D3170C85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05C-FCB8-4B96-AE31-68FA0521132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988FC-B7A2-404B-A891-488C4D54C74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11EE9-3483-4448-9EAB-2716184D6E0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04375-6727-4A7F-A222-425292241FD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4D02D-3078-4850-B6C9-D8F151D7E97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3E2D8-4A01-43F5-AF5A-58B322A6663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67457-3BED-492F-BC3D-3C5017A11A8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E72D5-ADEA-41CF-A6C3-2E68A152AF3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E7388-A4ED-4E42-8E52-FA52D51108D1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B0ECF-FE19-4413-887B-80D8F050FC3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61F58-C8EA-4B61-ABB9-6C1DA1F1D9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9E3-5AB4-4FB1-BA39-826E6D15E36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2439B-F6BF-4035-9AAE-C858295CC8A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30F71-D20B-485F-9004-0DAF990F0BAE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49535-8BD3-48EE-9D3C-BA702541FA8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EBB31-8731-4D2B-BD5F-49803CC5D47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B1FBC-89B4-456F-8004-272FBD1C8A7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3296C6-A002-40BB-8867-08EE0767586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29874E-CA57-407E-8E9A-794C098FF21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12CE3D-E624-44DB-A2A6-CC4265A91E4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031F31-73EC-4DC9-8CDD-1A06C8CF9C9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0A8494-09A6-4CF1-80EF-91CD6C407D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4B2-9AC9-4298-8CFD-C9D067BA486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5E5E12-AC79-4080-8ACA-CB7538BEF89B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9E65FE-EBB0-483B-B84A-5B2BE268DCF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EEB029-2349-4D88-8A46-D0C1AB4DCE1F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A6C85A-54D9-49A5-AF31-C32B19C1C1C9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63187C-3972-4A99-8A0E-84885D71CBD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2E9FF8-6389-499A-9D9A-1B5C6D6AF1D6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3DE99F-1477-4A8E-A8B6-D5EFD874C5E3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2259A-B738-4C7A-9D37-40D4988940D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BAD25-6BCB-4B6B-B512-5C95419BEE3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B7603-0713-49A6-8E7A-959E276414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82C-B587-47B9-8A52-EBA3EF20CDA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34D74-B21F-4BF3-B038-9549444D2DFE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4E018-98DE-43C3-B3B6-E68A22C6E7F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6DF5C-6A3B-4B7E-BBFC-D6C2330D9F3A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D695B-95AA-4722-9E0C-DE0524B515B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AA30A-19F2-433C-8599-2B0386B6C7EE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11654-47A0-4014-8F6D-6B19A76E077F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D5AE0-C9AA-40D0-803C-6F467A898F6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6E152-DEE7-4F95-996A-0553038D1C1C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68336-21C3-47F8-96B3-F2C28CD85EF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5F5A3E-534E-4467-BB9B-4685D5B86C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242-4059-4359-A203-A5ADE0D137B5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015A79-26C2-492D-B9CE-737DBF62EC26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CBA4A5-6205-4518-8812-88516371B2CF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17E0D0-389B-4852-A371-7B5A39B03C59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F79AD2-20BB-492C-93F9-EAC868EAD41E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FCBEB8-E408-4A2D-8645-0EEC8C37D17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49D872-E598-4058-B9E7-4F375A2ECA02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D7A661-9CAD-4720-907F-452197AAFBE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3683EE-ED06-44E0-AE7C-0943B7B04AB0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A81208-C1C2-4E8B-ABD2-CFB1687712F2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975FB4-190A-4E39-AE62-C44179AAF4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650-6CA0-4281-ACCA-076E1C0E911A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4539BF-43E2-4E4D-B8DD-D6192E5CCAD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F54971-CBFE-467B-A72F-BB6759692560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8E206F-E41E-4DC7-8BEF-D5371DC2AA1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4599CF-FCBD-4FCE-9135-CBF1CBE70CD8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E92C9F-E903-4270-8888-C547FB43AA97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BF4EA0-1B31-4AA9-8D3D-CF9D6D02CC26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ABF5CB-05E5-4247-94F0-3EF033955E3B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28D3BB-C6E4-44AD-A6B3-87F08115580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FD7E0B-E70B-41AB-B553-19DC6BE83646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AB6E0E-6214-4072-9FFD-5CA4F7FE48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903EC-04B6-4D31-B91F-937D15B994E3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C0FEF4-D2DB-4529-BB66-13BF6EBE3EAA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20D99C-FCE8-4FD8-8F0C-219EB843852A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2E3EEB-29FC-4195-B2B3-B1DB6D908F71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FB9A6-FF66-4239-9AE0-6FEEBB4802D7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BD0E2-F369-40BD-96DC-7F8A2770A1B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7AB5C-DB70-45D7-9F1E-173E4EF1D71B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BFFB4-D365-4D21-AB8A-CD0F8C1C7470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44D6E-07E9-41F3-8439-69E2B8125C4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9C435-CEB9-407E-BEDF-103E4A3EE892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BF031-6877-44C6-A043-73516769ED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9D5D4-834A-4FFD-8FE8-B036558ACD4A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4A0CD-6685-4E70-ADF9-0BB0A09C804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AF04D-FA00-4105-9741-D7D6E571C3C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BA8CA-06A8-4F27-9B3F-D7B7A95F19FA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DB7FE-67E9-447B-B084-4CB84452AE34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9E7B7-22FB-424C-8525-FCB8E56785AD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ACE57-E557-42A3-AAA5-568E7795DC3F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E668E-2F9B-464C-94B0-178D00D06EE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F41A2-58A6-4AAF-8931-49294F7738D6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ADC35-15B0-4051-86A1-186F7375DED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FE870-1AFF-43D6-9306-E2307D0203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8352E-B23F-4960-9949-FAF0D2DB4C04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74301-B6E1-4585-B121-E90BAC324CC3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3C6CC-7DD0-4F04-A5BD-340FA46BA0CC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C175C-B5C6-4A59-BC0F-F37699FF16C9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CEB68-931C-4929-9FE9-CD9D8CD9CF36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71AB8-B296-4CE9-90FC-A29888EA00C8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C63D76-9A73-4C75-9488-A8AA97DB92F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E86B0-BCC4-4104-97E6-BDB2822EE20F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397BAB-CE29-44FF-A557-C649E6011943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F04C81-380B-432B-8EC6-F87813BD7E68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D4E7FF-9194-47D9-A6AE-132FA7FB6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EA34-D761-4810-99E7-C3F1F53F3B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5BFE1-5908-4675-9187-CA9FE38FA51B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C1045B-4999-4011-9AB6-E4761084CBB8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C5425F-ABE2-4047-A585-763528901A07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F1855D-1B73-454D-9533-215984364EB8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181061-8DC8-454E-AD84-1ED71407D042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5FD0D4-5CF5-4425-96A9-AF77BA9EF7D0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10444D-F4C7-4FAF-A0B1-6EDDE0EA8592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B70F25-10AB-4E86-B3F7-35F26A79EFF9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1CBD62-85C6-4019-922B-147B8867E80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946BE0-0E02-4429-BF13-95A7629397B7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6D215-B88A-43D3-A7B4-8E991E1F20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88BA-43C2-4BF0-B375-39122CFD3445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D3353-B73B-48C2-A61A-5D589D9F8A25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98FBC-7D50-4FB9-B552-2F3E5B531665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86D77-2DFE-4268-AC30-AE4926304CA3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F6E49-8542-4969-9C57-0D5280F11AD8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48AE0-BABB-4CF0-9198-90F4CF6FCBC9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D6F6F-4629-498D-AB7D-69EF796F5718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3929C-BD49-4CFF-B8F9-F55D35778CC0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7D161-59EA-4475-8F43-AD35688FDE7E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26801-4653-4D40-A905-5C8F1E70D6F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8D680-788D-4898-BA1F-5EEF187C94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BA09A-EA62-427F-8D5B-0FFD9A4E801D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F59EE-E4CA-4ADC-AE0A-FB681BF19B9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A64ED7-CC29-42FC-A2F0-FD34B0ACFE80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761D41-90F7-48DC-8B13-B1A466C9221C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79ECC7-6026-492D-97A4-1BD02F3C40AB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79B2AD-693E-4AA2-A198-FA61CF8E7F37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4F4D0B-3EF4-45E7-8F53-375C75411DE2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2146ED-FC72-4C90-8748-65F5A163668B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AF6914-50BE-4F13-AF80-0019AA2C94BD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EABE86-4477-4FB2-978A-7FA42C310CFA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1765CA-21CC-4843-8107-0B2636564E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7DB71-5898-4F05-B358-B8013519309A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BD32D6-EDB4-46E5-9754-BCA75DE453AF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89F105-C5D6-4D02-8444-9242C3BEBCFF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A30AA1-F82E-4081-83C2-11BB0FC26E43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BF7A3B-D38C-449E-8E14-0B0A0C78C64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9F6104-ED8B-4854-8DC0-C84CF38DAA76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4802A0-6A5C-4FD3-ADE0-805C3C740871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F2107B-A175-4E1E-8993-60CD22191B51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1ACFDF-C4CD-4190-A9D5-6436F4877BF8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360F26-2242-4939-87EB-9CB4BA08DD57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5E1665-96DE-474B-87EC-71BBDBF8C9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59A91-1CF5-45B4-81D8-9F1D3742CCF3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077856-2F07-4BE6-A2E3-43E7D6B3549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78BC23-903D-4EC6-94BB-8F4F74A952EA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032203-6BF8-4CAE-A383-0374FF830B04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CD03A5-E0C1-4E95-922B-88927271504A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828A9D-1E9D-44CE-A1DA-F627EFC01F89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3C5D4-F877-49BE-83A0-E929F74F8950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518A4-67E8-4ADE-8FFB-FEFF7DE7E8CE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BFEFD-2EE9-44AF-968F-0F68CEABAE54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217C2-C8CD-470B-A617-37C947C7267D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20D67-A0AE-49D9-82BF-EF6296348B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0238A-69ED-45F1-AD86-E41A794D8097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A0D21-7E40-4007-9156-22479696BB54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6649F-6420-4B4F-848E-714FAB96964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90962-7DB0-419F-BC55-DD4DC7760BF2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B9F59-55FC-4AE6-A859-891A0AAF5DDE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0AF17-3FB4-483F-B2B0-ED7251A0CB78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9FBCA-69B2-47D8-B80B-80A09AC8D349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C73AC-6680-46FE-9C2E-77E00C8AD677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0B97F9-BF64-451D-A79D-8D2D71D4EF44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8EDF6E-5E64-4C58-95E6-0BC9D3BEC72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E33FA3-7D4F-4BC9-A0E2-2EDAF4C1FE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56E46-8D26-4550-8E7D-629BBD644553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EDA41C-E3E6-4E59-8024-BCBA2DC9A6D6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C2AC94-2823-4627-9F68-A1AB224FD598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4C8D60-DCDA-40EB-A98C-DF7C0B0A028C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88BC3D-B541-4D9E-819C-A5275D67D4E4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A5F398-030C-495B-9F8E-544968F1358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C2E19A-537F-4503-AA2A-8E2C6C6E62E8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BEE2E7-F261-46DA-A937-2CDD6F9E5D50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F85699-5D78-469B-8EA8-093FA8F7F382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C07423-D308-4A5F-BA89-62878A9DA5AB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CF3246-F488-45F2-BD3D-9FDD41E1D7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2B60C-23DE-4F45-AABB-32EF9B9E0D2C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65D2B1-4F2E-498F-B203-31FAFF7F0351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95DEC4-3ECF-4AD1-90F6-E7F2068D59F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AF9B0D-0E78-4EC1-9C89-7170A19A4EF1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881467-4C74-411F-B2CB-F885D19F14A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3C9D5D-4A8E-4724-BEF1-8631DBC81F3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7735C6-DEAE-4945-831F-A3D11FFF8B6C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EADAEB-2A89-4D09-8417-BB7EC231443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B051A0-84DF-4383-B8D6-C584F1645B70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57D86F-E3E1-4EB2-ABB8-90A18E0A378F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EE152B-64EB-4DC8-8E18-6F7044791D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0D6C9-7394-45FC-9421-EEBF97FE016D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4221C0-9377-46C9-848B-F72EE4BE90E6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FD14C-A3A6-4547-B148-FF661B6DE244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63E29-B95D-49A9-9B68-475E4A7B11EC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AC2FF-BB2F-42B1-9914-331F460F5FC5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B2F1A-4B13-470F-8ECA-C813BB1372B5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67DF7-3027-4F14-91F0-1CC8574E7882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CA8D0-F686-4A08-93C0-C0B637BFDE5C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1A323-8BE0-4425-8A59-117B8560A7ED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B79BE-B0F3-421D-BDD7-8A6092A8C8BA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90BB9-6ADB-4073-95BD-E8FABC3DF15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2CAFD-A4B8-4935-A1A4-1D054E845131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CF101-CD77-4B2B-8C94-44D41374CA03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3641D-49FF-4595-B7F2-2EBDB30B2F29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C1F9F-D66A-450C-8168-879EE656F4EC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0462DD-3B90-4AFB-9B4B-A0E60012FD41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169C30-FCC7-48B8-9B7F-3A9475D3B44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97C95D-6D21-4CF2-BC3A-FF6CF9418DC4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036B6D-E12A-4953-B48B-18891A057471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8E0CF8-23D7-403C-862A-6795355896AC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B3496A-4706-4055-8CCD-B042BCE5755E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BA15DB-D4DC-4662-9591-D107F8B36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133A-750B-47FF-B3D3-C661D4C32E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73049-C78F-468A-9F61-784C41A50B17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79F2693-1D22-4203-821F-DA0A8057D5E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F906BB6-1416-4812-BB88-815C6BA8B091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F5FF8A-F36A-4E8F-A18E-3CD2234C63F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A1C4B2-E253-46E2-BC78-AD5C14827D24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EB8ECC-1734-4F25-AB99-A8DEA03D6C38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7C8AE3-0EB8-4F44-BC7E-CA750450BD73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5AEF46-A990-497C-8960-3DE1A27E6966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EC4CF1-E642-4278-87E1-26563592FEA0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2E5D40-8878-42FB-8933-EFAFCE85D8B7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215F9C-28F5-41C6-92C1-0944423F7D5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1E9CA-B3E5-4F8F-96E4-7C23C92C6221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50615B-030E-4992-A1E7-2711E9FA0435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A45AC1-DF2F-4D94-A5F1-FE0C376D8CEF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46E59F-93E5-4281-B192-7DA94DCECC8C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51E79B-9FF8-40FD-98C0-AF506E659AA7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69EED1-607B-4CCE-AF8C-8876B66557AB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9D5F25-7343-4043-9B9B-CADA053DC712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638933-3DB2-4CED-9C6A-60CA63AFC54E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D83E9-6D5E-48F3-B29B-9B6519D15F2E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CE881-7F70-44F8-B48E-FAA26305D21A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992C5-4AD1-47B9-BFA7-4DC3502213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B60A8-C071-4F22-9A8E-9C701431709D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8C2AB-4759-43A4-A3BC-412F17706FB3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B1D38-34C1-40F6-AD33-1777B1E2369A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994DE-5D7F-4F51-8EEE-963D2227D0EB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949EE-8391-4EF6-9C83-22A28DB05692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F23C2-C20B-44A1-9A64-24FB40721C05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F0AA5-2902-45FD-9E40-3CA065524C83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03E58-CC03-4E21-ABA9-85DB8D53C45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A7C76-06D1-4522-BAC5-E2949751149D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18348-66F2-4D13-B3B8-CBF6EFCBB336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ECF31B-41EA-4D82-ACA7-AF5E4CAA55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D2896-220B-4BC4-9355-04B160C0005E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2E3AA4-6CB3-437E-AA27-595F656AB3EA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E19642-DC10-45D5-BF19-3C5BFE722A8A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5F3CE0-9F3E-4604-9820-6937F777CF20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A9F296-7166-4035-95E2-1E7243306EB4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CA8CD5-DADF-4D47-AD77-48ECF609D9A1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480636-36B8-49E7-8BE5-02614F0BEC62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82BBDD-9CB6-49A0-AB40-A9D8B43118D7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BDD0C0-9EA7-44C6-A0C7-27E217DD7CB6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13F73A-A649-4595-BE43-F9309B75F2E3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E3612F-3902-4916-9C9B-3514EC13DA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48CA5-ABDD-47A1-AFEF-472EF1F091AE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F6DCC5-A6AB-48CF-949E-C2E9A9D79F8E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072DB1-5683-4F40-BDB0-DCF0C0B4CE98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11D3E2-7BA7-42ED-81B4-042E2D5579CE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CBCDD5-8707-4A49-9B3A-A8AB20485A40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151C16-8DDC-4A0B-9861-3FFA27054F92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96D01A-FF20-4885-803E-016403B8E675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0D7F67-1E9C-43D9-9279-74CB14EA1ED2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A0D56D-F16E-483A-B2D8-DE1285CCFB4B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52AC98-C002-475F-A7CC-1C06A8A6804A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660449-9AD2-4213-9385-75ECBCEF81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3E44D-5512-45CF-A303-4EE725C16FD3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E659A5-7454-4B4F-BDD6-470C4E44D2DB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251986-3609-4E0C-B219-30F6E4A5BC5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3B0B53-98CC-4194-885C-1FAE52033B6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1A56ED-46B4-4FB3-8FCA-042E9E42518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81FE5-7AC2-46BE-9BB2-07C7C04B16BB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EC60B-0768-4496-965F-A7A824ECA179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30B83-DF17-467B-BE51-8079FCFF83B4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B573B-942E-4250-BBFF-E1017C0BE44E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7F38D-0762-4E02-9041-EEDC66F099AB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D05A7-21BD-42C0-994C-1016E67294F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37547-6D96-4DA2-B2F8-D69E470277CD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EC709-DE05-4E8E-9D6F-C2FD08E5EC47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526F5-99C8-420D-84F6-92871F45B0BA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97A2B-018A-4EAA-B12C-77864FACDE1B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40888-155B-4464-84C0-135B89930B54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F54F4-60F3-4FAE-AA32-7484544F53E3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9B73E5A-6BA6-42B8-85E4-D72E96776097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CE79F4A-6C55-4136-845D-9907D4352538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3A65217-13CF-4812-BBCB-AB86D990F089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A713939-1822-45FF-8AEB-8F93DEB51AF8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1DC4AA5-623E-41B5-B170-35C43F7231D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3AB87-1F33-4157-8E36-C758FD54C54C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AD761A-C2DD-439A-844F-21759872C015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4207B2-6026-4339-8B92-F865D9119B25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1203D8F-2682-4CDB-BBAC-3CEAB9B6956B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D105BF-BF36-4D42-B8FD-FB8C8141125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B135F6-493F-4600-8B54-30F10E09C745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97C4286-0D1F-4BD6-A12C-4E27A24ACCF7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D3D3BAF-CF88-4D2B-892D-26D1788A5E30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0A35BD-DEB5-4F47-9764-D684AA61BDFA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7F27F3-3F3C-47C7-AE17-314E3A00C64B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864B27-501C-45F7-93CD-DF7DF17A375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C4909-931B-462F-AD52-9CF66C7522F3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EE8003-B97C-4F57-9BBE-E42F50266F64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B7FA06-1AEC-4911-9147-15C90989FB94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5C5E95-952B-4B55-8CB2-AD6DB1FB9AB2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48B978-9A02-47AA-B342-335EFDFC5FF3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DAF100-C11F-4F8A-930B-EF2E5A4AAF2B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37A969-5CDE-44D0-9E0A-46CD415CB40E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0FA46D-0E26-4E28-AC79-F9BC360AF040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C054D4-FDFB-49A1-AF72-2895729F2492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17EC7C-3C88-49FB-B577-0D9EFC0405E0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0C9B4-30F6-42F0-8AE9-C5DA72F1F7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276AE-5DA4-4351-81D0-3F4623BB5845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C26B4F-A322-4B24-B7ED-A252AABEDDC7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E432A-D9E1-49D8-B8E8-BD4C9FFFB1CF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233B8-3860-4602-A980-89B87D269823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7B39B-6530-4B79-9B82-56FA966C7319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0F006-4110-4FAE-A4D3-08492FADE616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55A29-3879-4A3A-A1A6-405A199CCBA9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82492-216A-46B9-B71E-BC53E53FC9CE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934F2-280C-4249-B35D-C42A03F2C793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5B5925-839A-4928-937A-3B9A3326FE31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51DD9-6A9F-48C2-AA33-29A76D466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D11D-9EB1-42A2-BF80-A64FB496456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11578-4C4A-4B31-9E56-D423081E6499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8DDA7-3C2B-4123-8D99-491D751EB6B9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5E7A3EC-2DAC-45E6-9C2B-9EA25DCA3810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8BA41A-6002-4A93-A0BE-ACF837964FE4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A4138B3-1639-4ECD-89B4-F7838DCFF875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46251E-3A9C-4C8B-93F9-3EB282DA8B4C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050A36-EFB3-4C17-B9DE-591217064A0E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17B049-47A6-40CC-9568-55B1F3AD4E44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29F6BDB-D149-41C3-BCCE-8B1008CD971A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873E7D-8760-4A70-8852-53A85570E49F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814772-DB55-4948-971D-91D6176AFB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8413-7758-4F99-880F-39A6B8DED363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801E370-D32A-4767-8790-4B48AA37BCC0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EB4432-A0F9-4E4E-A59E-03DB882DE687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E9FB63C-DCC0-4AC1-88DE-35283FDE180F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B171EA-D9DC-439B-9853-F9BC69EAF66B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4F2BAB-B32E-49E3-B3B2-82E717EFE0AC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C5C875-3D01-45D5-A1E5-209EF8EE2194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06A9D8-F925-4B84-A6CA-9FC89A77CBCD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C05F15-BA9B-424F-B351-537602137616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3B3005-04A6-4BCB-92AA-3AFB272B7416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3DFDEA-EDB3-444A-B818-E6D8C6E410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04BF-ABE4-497D-AFA2-1A3F46C42B35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020FF4F-F191-4B03-8322-4AC996C4C7B9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2FAEF83-B1DC-4CF9-AB3F-A5C6B278F8AD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D39821-A07A-4782-B038-CD6858F5EFC8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F5EDAB-1514-4A6C-A73F-BF735622FC3C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570D67-C376-4FFE-A843-264823F19E97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2672A5-6BCB-4041-B9BA-B261344637BF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7DB5A-A62D-4325-9C64-45BE7318835A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571AC-6A81-4D59-B870-54D7AA5E859D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505FFF-D53A-4A99-AA28-632F7F9DC5A4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AE72BB-0B79-4AE2-8DBB-BED27FFC0D6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E2BE-DE4F-4EE1-A550-CA04C580FCE7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CB36BF-B781-4592-B3F9-59A875BE6540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8E588-24EE-4F46-AA72-178916447352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CB48C3-2C18-4292-9A7D-30D2269B5A95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96A948-F83C-436E-A507-002650CBEE3C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569B4B-AF80-4F4E-8F69-4B3322FD94E3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13250-ADA6-45E9-BFCA-A40BF5A45B74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940F7-255C-4E81-A6FD-2E693B50BD24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EA62DF-F856-4D04-867B-4229C162115F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7F2EDA-4299-4D7E-B3C4-B43A5CBD5DB0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A31FA77-D9BA-4602-986F-8B4AA9ACB9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03CE-7105-4D56-9BBF-EFC313E0BA18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5A48FD6-9943-4ADF-9C01-D7C33FE59BEE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AB8CCBA-A781-4893-99CB-BA7F1A93407A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93FA90-1BE4-4981-B0B5-DD4B4F2D6F0E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E8FE5A-122E-4096-B29C-95CC8E90EC3E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011349B-0F28-45FE-8892-362142F09FD5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118BAF0-D3E2-4ECF-9D79-A6A65F54CB1D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ACB994-87C1-40A9-89CD-47571870FFE0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1D43583-0362-4B0E-BC12-E8F93330EBB1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B7B239F-A32F-45D5-BA69-712CA1874CFD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21E1F69-D427-442F-865B-73DB3FADF69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2047-AFE6-4958-AFB3-ED6C0CEB9E02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BEF53C-C7D3-40E9-A7B2-A34AD549AF05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08698A-44CE-436B-A15F-DD72ACEF1632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A5B674-2AA0-4970-B52E-9D5166147C64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71BAD5-A0D1-4A48-B546-48084533833C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2B7F07B-5F54-4E75-8764-BA595D82F789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951C2D-C557-4E5D-9D1C-FB0BBB86F6AC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D88F0B-4A7A-4C0D-8003-E85B4E3D136F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CDB1A5-66ED-435C-9B36-370DA6D49D60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5C805D-D888-4011-A4F1-5CF6EDB83BFC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E74662-2A5B-4AA1-8B18-D349896CE56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1921-93B9-4502-B081-A145E548EEB8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F0F453-633A-41E9-BB7B-3578A9BBB5D4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A124AC-3EDE-4B17-8AF8-E009BFBD59F7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EACD9-3841-40C8-B94E-7CEFD6768D14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5335D-A48B-4B76-8894-66696B4B1B11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5330B-9B67-427C-898B-2E7CFA0372AA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4ABFC-17D8-4FC5-9AD1-963D67AD00F1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CDDAF-F407-471E-B374-E2B91F73C717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CAE78D-8A8D-467B-878A-51EE91C5FBE0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03BC14-90F4-4FE9-BB9F-408433A682F7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C91DE0-C424-4D38-9E75-25B069D1CC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CABF-3F8E-4AFB-9694-81074F926FF8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506713-0EEE-4D4A-9139-3D4CB05045D0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B46E2A-2307-4A96-BE6E-9716356257ED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72A1D8-50E2-4E85-910E-9560709B85AD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3E61033-6EAC-499C-AE77-5AEFE443CD69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857A5F-3360-436F-8108-6FE11F6E67E4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C412646-04E8-416D-A6A0-917B06B217D4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7706C9-C9F1-40CD-A782-F04B04FF04C8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A442E2-2710-4C94-8577-5005A174B7A7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B1E209-1F84-4EAF-AEC3-D7A170E971B5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E5B4EC-0FE5-49A7-AD38-63A245EE19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8C39-C7AF-4D13-AFE6-9C87F6657E9B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0387EAF-D462-4076-A68B-EBCD3E7A51B1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2C8E1B1-6B57-451C-8451-6655F7CE6458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34E22A4-79A2-4C67-8713-BAE15C20B60B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DBBD834-F7F4-42D9-8259-BB2CE5786BF9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F42973C-EACA-40E5-8FCE-46A81496A715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E2EF95-3B2F-446F-96D6-F8B228DB7415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8B14C11-BECB-45F4-8F9F-E3F9294E3BC6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135144-26E1-4208-BB7C-01EE1A15191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58BE1ED-0F43-44AA-AEB1-6E01A498A61A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AA246B5-B833-41E7-81EA-AD73116E48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0043-C9E1-4C88-945C-452D9310111C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8CE9D4-4FCA-4866-83E9-F0B704D9D1A4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349CCA2-F368-41E6-94BB-F5D4B938C9F5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A82CCC-048D-4809-8BA8-8DD3359C55B9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920D96-ED5C-4A19-8A56-B4B2243DB367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81BF67-1B7D-4C4E-885C-A6AB0DCADE30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9C3B7D1-D335-47A5-AFF6-508729A52D69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E68A09B-F40C-4057-AF28-B4CDB4C3F12B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091371-1015-4F0B-80DB-972A9615A26E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C8FDD-0E52-4811-8538-ED222829289D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D898B-7159-4AFE-A885-28786C705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70FD-1E6E-485C-BC34-D8DE9C050A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C056-8CE4-4D6A-8928-9838233E6B54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30E4CD-D9E1-40F3-97CE-EF03BA1D95AF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36AF9-1D98-4034-8C35-048394B42908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39355-8BA9-4188-A730-CD055E67468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47D262-07AA-4E63-801A-50850AF9391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62980-AA17-4F53-97E7-F6057B5F83D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A73CC-DFF8-43AB-95AA-8FDF340DAA87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A4A300-2348-47FD-AC4D-B6EDC2B0FB9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59ABFF-935A-4B45-868D-5D64B1A90BA1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40B5C-2803-45F7-A93A-7E365E8E074A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9819CBF-F5EB-4485-B3FD-914ADA2F05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DE71-045D-4DAB-B4A2-3A5D0A59FF57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2BBEA30-F1F0-4796-9FA8-83D443CEDF9F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3B9926F-C5A6-48BF-96B0-3EB272FA22DC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91CE6FA-AED3-43EC-8304-20D7A1100CCF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377E3F4-5DEC-4229-A7C3-93400C3D0910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24C0300-EDB7-4D08-BC0F-470F932B9F73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74710F-D8CE-4D15-9EDB-9AA4607DDB13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213718-C37A-47A3-887B-F4464244C165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F053F4-E027-42F2-8C7A-7C6BB2C25F82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09949F5-2C6F-4F57-AE84-2C58CFAAD6CD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73BEA6-53DC-418B-B631-F204E7BE475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9998-CBFD-44C1-9A99-2E025DF12B80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6063342-7862-4900-BF0B-D03F0A97408B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C7CEBB-2B33-4052-AFE4-EB784CB2641E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357A2C7-04EE-4F4A-9FF0-FC230459872C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D08E25-166F-4C11-B225-653B8931D6D6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A5E8119-7A0B-42FE-A927-1531D15B5409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475D194-9056-46F0-B267-DD6E697A94C2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D1FFB5-3C79-4CE8-83AE-72C96FEA05F2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D4DCCB-E2DD-4376-AEF9-6ADD0D66DAF3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926E43-B08C-4ADD-AEDE-A838A8CB5DFE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C57270-0937-4CD2-828A-72E0AAAB1B9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19D038-E856-40BF-A3EF-1D52F745004C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A7B7E6F-371F-4067-AB43-1B6BCC7FD332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6C51D4-0E6C-424C-B318-FDE2F5CCC748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7C6E8A3-85C3-4F04-B70C-06A45071C046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6A45D9-FBEE-4AB7-9025-A6C57EB17ECE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0BB0A7-6853-4831-A026-E2220E8E4561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DBD163-4B76-4A26-9856-A096F8693B5B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17D70C-C57D-4552-83AB-AEDF64ABB47E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90FC02-B501-4FC9-B0E8-A95E875BC48B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A3B83-FB13-49AB-BEBF-C591F7DA40D1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92723-0FE0-4F95-86F6-610512266B3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96A5FC-8F0A-46D3-BE00-2D75EE8F1DC5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9C540E-E396-4982-BBC6-8B5593F7A612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EE0186-F7C4-490E-927C-30A40D2BB7A3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3D6CDF-6C46-4A0D-B80C-697AC17AF302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569942-51C1-4E80-A303-FBFF98D78D53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06550-BB55-45F0-9E39-DE9407064142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565AA6A-FF88-4A2C-8CB7-528E1EAEFE4E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CAECED-C755-4E92-A65E-C14D4916CBCB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CD9B2D7-6D95-4CFC-A281-13E44F421666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AB97B32-F092-4B8E-B352-0D957A0FD07A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C9EBD58-3713-48AB-BB5A-7CD61C5FF9C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90A207-047C-4E44-BBF3-321CF2826FC5}" type="slidenum">
              <a:t>&lt;#&gt;</a:t>
            </a:fld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9AECD48-47CE-4C4A-960D-21D2FF2E07AB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A0AB51F-C199-4F7E-BDA7-BACFDF9C281C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A72502B-8A90-402C-9C50-09827445F58D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6C28A1C-7EEE-4DAA-A5FF-0B0189DC5804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CC9A1AA-544B-4F11-810C-6E1D87662A00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99E05C2-6F91-456B-8088-303CDA3AE279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DCEB2D7-5EA7-40A9-A1FC-B287C22425F8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595959D-F076-44C5-A5EA-7BE76F6DA940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9935862-0C29-4793-BD22-DFF93E7050F5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B60AFF8-AB08-4103-A2D0-5CCD7E3522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534CDE-A09A-4DBE-A688-7EC0EFE58012}" type="slidenum">
              <a:t>&lt;#&gt;</a:t>
            </a:fld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305F403-45F0-4DF6-8662-B41B0A067F79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810AB20-FC84-4435-935C-912260269CD0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3632B43-FCB8-4AB8-B510-5139BD352752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F36B8A-17BA-4411-9221-671F90AFA29C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5BCB66F-9638-4510-8DF2-2E44724000AD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A4DF62-C2C1-445F-A114-79418B29CDB3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A7F8330-CD15-40E0-AD0B-23DCB23C7EA6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F17B191-C46E-4738-8D33-6D68553C44C9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38C912-458F-4C81-A957-8587C231C214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CFA832-27AB-4548-8476-6973E3697BD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F70C3E-B2B3-4DE2-A45A-CB86EC179B4A}" type="slidenum">
              <a:t>&lt;#&gt;</a:t>
            </a:fld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EEA2B4-C32A-4F5B-9334-9D77211FB165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CAC84A-C6E1-4801-BA9D-7A1AA093FD41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215A32-8D61-45F4-9DCF-3569865B6C01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9889D2-EBD5-4669-8D03-FB7B4CD95BEB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A83690-BA75-44E3-A3D0-B641188AEFA0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E4D256-BC05-4300-B067-2559FAB8AE2B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30D787-0D79-4609-9E53-998780FF4B9C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20897-9491-4665-963D-DAE0FE1DB49F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215264-B02A-4DA3-B4E4-E9B91BA4E40D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BFC6DA-C5BC-4D0D-B48B-66089E7E75C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E18E38-D102-41D1-B167-84CEE0C7F18F}" type="slidenum">
              <a:t>&lt;#&gt;</a:t>
            </a:fld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D0228E-EE7A-4FB9-AE7C-FE5B530CDE2C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EEC7F41-4F0C-4FF5-AA4F-9BD88473D636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F09FB6F-D605-4686-B534-DAF446F9D608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4FDC40D-B9B6-47D9-8D0B-66D631C5187E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604825B-4610-4E67-A549-1BB57DAD4DF7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2BFC6A5-6D6A-4F73-8A58-690C961FDE3E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286EECE-0E83-4584-AD2A-F56AEC9A1A8E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F96B6F3-782B-4157-A2BF-E8D3F7BDA90E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35C6403-94DD-4FD2-AE64-C7D40891D0BD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1D0C4BE-73C7-40AA-8F33-8A50F3482F2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BB7E0F-F06F-4030-87B2-6A6C7B0F32A8}" type="slidenum">
              <a:t>&lt;#&gt;</a:t>
            </a:fld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0F64648-D909-479E-A738-1282ADFF7508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612FF45-F663-4049-9B04-78D599D75A07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8AD5DD6-3119-4CAB-96F9-A6DA458DC908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706A6DA-80AF-4894-B536-6543EAC20C8B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40DD628-126C-4E7E-8C0E-96FAF13D7CA3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0C124B2-8DFE-4C21-BB11-89F09D968F38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AA5015-912E-4314-AB32-0A6C3F148AE5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391E54-978E-4D03-8A3B-E002AE919F93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9DDD85-0A1E-4A7B-80C8-0526AE5F95F3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DCE9029-BCDA-4BC3-9D73-40ADC6DF9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338C-13EE-468D-8787-5B43282BDAB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75B989-85DF-4588-A464-110DBA378093}" type="slidenum">
              <a:t>&lt;#&gt;</a:t>
            </a:fld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5FBC7F6-F3C6-4A4F-A67C-9B5A707873BC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31D02ED-39B0-487A-AF79-9FA3709957E5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3BC72AA-5C76-4FFB-BB3F-8786C3AF7B3C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041544E-00D2-4808-9E81-52A454756B29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7FBE2E-2FDE-468C-B56A-BD15598126F5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B3AEDF-04F1-4911-AC95-F40F5B413A88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736123-86C2-47CA-8FA9-87567C93C6D0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7759FC-AD46-4E17-BE80-6111A2F391BC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8AB3BB-8110-4A5A-B284-E21992415F55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EF394A-1C2F-446C-BEBD-1638FF7A3B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03BCBC-F7CF-431B-A738-D30C7C98BAAC}" type="slidenum">
              <a:t>&lt;#&gt;</a:t>
            </a:fld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346AE7-896E-419F-BC3B-E86DF7CBB974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C0B790-3F6F-452F-A945-4E40769B6E74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5C030E-B77A-49B8-BA03-76477056B603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E2363B-BE76-4CD7-B1AA-A2358D30CDD4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F7ABE9-3BFC-4A3D-831D-AA521626C862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AA0AD7-9F97-4BA0-A521-AE5E6CC9C6A9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EEFB79-A6F1-4244-81CE-AB4A471F5507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DD5306D-0BC3-4B1A-AA78-3F7DE91ADA38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8B28A46-6B50-45B3-99CC-AE5500BA880D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B14F83D-9ECE-43A5-8FB0-35FBE7B53C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9EEBA6-D924-4DE6-B901-D9404649DA4D}" type="slidenum">
              <a:t>&lt;#&gt;</a:t>
            </a:fld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D4F4E11-0B60-4970-9ECD-352AB6B8FE6A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AD33260-B05B-49D5-80D2-8C9BF7C13B2B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477F0B3-5B49-4D02-8576-5A5262EEC255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1437AC-5BE7-4F2B-8FC9-903FB50C7D5C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DF994F6-4173-4AEC-ACDA-16997B4561B6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6009D6-83E8-4A91-8EB5-C9A076614FD1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CB56E1A-26E0-4EFB-80C6-27B079BC5C5A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84150AB-2C86-4A07-9A5A-2B19B24EC076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08D5772-D73A-4FF2-9343-8D2333215924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8EF31A-1231-4138-AC55-1C14C84C99E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8FE5E-D9D5-441C-8C38-51E81CFC1295}" type="slidenum">
              <a:t>&lt;#&gt;</a:t>
            </a:fld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26A5452-1F95-45AE-9C49-BAB651189A56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D62215D-7DD1-4688-9E3D-308FAF5A81B9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62B4A1A-B50D-4B3A-9265-04176F7A5DB2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7797BB0-D50B-4C73-9393-6AE7AEE131B4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370994-6016-4A53-A65E-89F2685C3A7D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1C9E64-C69A-4A52-A866-45EFBB97B9F2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83184EE-D078-4B35-A8B1-4A7E106A1364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CAB68EE-D8BE-4E22-878B-0D027D959830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86DAF8-A504-4CEF-AE31-1C135D980D94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E4BA9AA-CB1A-471E-A921-E238534C16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67D96-37BF-460E-A58E-FF06CE7FA260}" type="slidenum">
              <a:t>&lt;#&gt;</a:t>
            </a:fld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32E87C9-C07E-44D3-8281-363702267720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668091-FF11-4C58-A606-FB52DFAEFEB8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D9496E-140F-4403-A482-FFCA4E98A043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AEEDE5-0917-46AE-80FF-58B173D9F1E4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06E74A-B582-4BB8-B85B-93CC67FB91AA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E60130-05BD-4896-8022-65CCDE248452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30F5C3-814A-47EF-ABA3-473814BDA881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34579E-609E-4260-AF09-3C48898E5463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48CCC-D321-40E2-A1D1-85FBF6BB5FEC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68B23A-4418-450C-9E36-9F3E21FB09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0EEB1-3322-4A97-8690-3A09342DB8FD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9A75AE-233D-40E5-8162-05B938041013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78F672-B3BC-4C83-B231-7443698B8D92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EFA53C-743B-4808-8B8E-B9A90C56C8AC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8091D80-3A95-46AA-B11B-34B6DAB9D5B2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AC4F720-E1F3-4E7E-A8BD-B112C82CCF2B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E824883-66B1-4543-ADE0-BB0D21F39730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6D065F9-3B82-4EAC-AE4E-79D8CAC782A3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737EA96-1666-4FA6-8E10-06AF820C722E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51A2C26-4AF4-4B77-801B-0757D4ACF646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0D145ED-535F-4ACA-B9E7-3147555A395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266F9-409A-4BF7-ADB7-132AEFC7F82B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1033AD9-F835-41B9-8949-A5AAAEF6F137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0571B86-7819-429B-8E11-17A857EF3A40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2DAF136-EC67-4568-A8F1-E3BB19E2BC9F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E9452B3-0C73-4A47-8FB9-FDC8F276F8AD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F92DB96-ED3C-441F-A9E6-BFFB0D16E2CE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ED66D73-B545-44F9-B8C2-4C1790EBA7E1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6E41857-8E9B-40AC-9B41-031D822EA191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19E07ED-B840-4404-A217-40BA45D8FF1F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EFABC28-88CF-409F-80A5-02956BD8500B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BDFA393-6385-4B5F-9752-D3D6025B603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8448C-78FF-463D-9F7F-3A985D9A1F15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067B485-9581-4A93-90F8-6AF97028CFF0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1751857-7B7E-4525-A782-4FACC066BA29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AF59A85-AEAE-4B7C-9C4C-F84711B17C57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37BB06F-434A-4EB5-A735-7537AD25F869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6360B7C-A182-456A-B8A0-229DE1CE74AC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3C7E138-952E-455A-8C63-0754B9B2A0A6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AFF1F5F-20E5-4387-96C9-90DF5EB0EACF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DA1F78-968B-4547-BA20-B8DB5B002C10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7AC8DF-E08C-486E-AA2F-1ABDB28D3063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5CCB08-FDA3-48E8-ACE6-F234ED1B1D9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FD3F9-46DF-4982-9F8D-CFBD250787E9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12555B-C9ED-4C0A-B572-CF8CD98BFDBD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5B5E98-7FAA-43CB-B6CA-60F8314B336B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FE83C2-3A8C-4C33-BFAF-ADDF4427FF2D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2EBD45-FEFE-4F2D-8F5A-B59088C5C484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B7F2DF-EF98-4BD1-938C-8E97349A3E0C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59115A-C168-4437-A37B-144D21CAA4B6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6F3E0E-3E2F-4D01-B8CC-B8A2EDCD9BB0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B4D03D-B696-443F-8625-1F57259D346B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911781-7BDD-4ABF-8A4C-2FCA506A5E16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9BFC846-7AE5-4218-B607-517F2B9382F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B6A02-0379-4B19-9C01-48618CAEA2BC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74E5371-BD60-48D8-A321-47478056FAFE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8AD2788-A914-4AB4-8231-2FBA00C20EB2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3D149CA-62B4-4556-A8FE-D22F7AC9F805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53E6817-1FDE-48C8-800F-233DFE35B624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FE99A96-6DBA-4FC7-BB7B-B036F4FA4B4C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4963F35-8983-49A1-9E64-DD0FFA31A09D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2632DE1-2297-493E-AF9F-14CBCEFA07F4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209D03C-5025-477F-B413-A119C062E358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F6E1EF5-6BDA-40F0-A4AF-774B7FA3FDFB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8F92A6A-F11D-4549-BD5D-FF07C6FA2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8604-AD61-4627-8DD8-D98F2FC567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A5108-DAFF-4856-9CB4-5701966F3B9B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6E8347-7BFE-4E69-A8BB-CFB950705A14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A5AE57E-9AD2-486D-82DB-6FF8BDF774DF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CF56695-2D70-494E-8077-D2B63590F852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A40FAA5-DAA9-41F0-BB82-45FC246333FC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B22B736-22B2-46E1-8E7F-070BBB407DCB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10F6A4E-D925-4519-B0C5-B5E27BA8E1B6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BF606EF-30B1-4576-9337-C9250F9E82A8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D33C4C5-0000-4A90-9915-5CFF87695886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7F05D08-1439-48DE-9F9D-86043251F92B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24D1D08-8C37-4FB6-81A0-31A870C798F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0D280-B3AA-4F0F-8C38-DC60AE5DA021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6C2A07F-A459-4476-B0AD-C5AD0F592430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E489A5C-A690-4F3E-B6B6-C125CC6AFC2D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7598E01-D3A2-4D3F-81E2-D9FDDC2B4FD9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4034C4-3919-4159-804A-6650BD9854F8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8561B5-3A23-4031-9483-DC005B9A11E1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2E76E5-6452-417A-B176-2CCD9B9AEC4D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9F87DD-ADFB-4D47-AD9B-407C13ED3D13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51B37B-095D-47DB-9F96-FA06B52C729F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EDBBFE-DC11-4257-B114-CA4453F85F7F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7EB63C-ABC9-423D-9C04-95E123D4B40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B11FC-CF9F-4672-A258-FC14BEA2F71C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9C37B4-18A7-42FE-AC88-3CC7E896387E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8DCCC0-55FC-4814-97CB-90D72EF6C8F8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EFE610-E303-42C7-A397-BE4B83BF56FF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CCA29E-01DA-4D44-BB0A-A44623E40B92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EF9834-E15C-418A-9C0F-6C2B8B6271D0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5A02220-DD70-4AD7-975D-B6290F713708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09FEE7F-90D3-4E35-B063-AE906B7280AD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E90F0BC-09E7-4229-B381-6CF140B042B2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52818B8-52FC-4B8F-9082-9092F810388E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4C43BAC-554D-422C-8FB5-EC253F4B34C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DB7D9-AE1C-479D-B852-1E61DF41604E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CD32271-6E21-4B87-9189-2AFF1304F7A8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445AA14-D325-4CB3-827C-2465C4308718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E1A5E12-329F-4B4F-B680-9A84B9FCE1D6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BDCC91F-C457-49E4-9A53-1B38606BEEA7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5BB5CBC-3D31-4E1E-A189-01CF5DC2AEA0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5D9F8A8-06CE-40BE-8111-8E6FF5BCF0E6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97C98C3-2389-4DF2-84ED-5D6F34754419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9AEA9B2-F5CB-4C00-912B-978C64B82384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7525D9-569D-4691-99EB-908BDB1F5BD8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B5C288F-15E1-41A3-9932-095E457BC80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BF46C-9906-47C0-B0B7-8270B4C88CC0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1532AC-FD7A-427C-A458-2B3F1DA11080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1118B25-2F8D-45C2-B5D3-0A0D815A4279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70798D3-3179-4DDC-B367-4DCF57FA1FCC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C031937-139C-45A7-9329-DF276D808A9C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4980DB-60ED-4E29-95BA-5ED20F4E15B1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3A867B4-1340-4B29-B6EA-067B15060EC9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B14F2BB-FB1B-4D51-BB52-1A3F7C53A0EE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DD62539-BCF8-4BA5-837E-E44992A810A3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6E97D1D-C83C-4473-9FA7-30C69C705A08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83D93D-5649-4CCD-B5BB-E3F4A50F17F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D9C3C-7973-4D19-849A-E4C8CE04BE8E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9E47D8-C5E4-4F3B-88D3-CF7AD6797A4B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2066F5-2FDD-4773-A217-469D46CFF961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ECE534-0C91-441E-9878-1ED8AC997880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08C24A-CC64-4E1F-A1E6-42B52D34DC30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A599F4-7857-4F41-9290-63061A05258C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4B47CE-D791-40A6-81E6-7D0BF796DA1E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AAA578-584C-4451-B028-030EAE533DAF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5158F5-2ECA-452A-846D-760C8EB0DA44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8D1E52-D0DE-406A-8088-D0B279672D20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0A8BFD-6F53-4203-AD2F-A5D5EEAE34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98E45-DFE6-4A92-96C2-0C57EBF41683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8AF574-D697-4D00-9177-8D49D1436DE9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D9B57A7-020E-434F-A471-D62BC64C1371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22762E2-54D3-4438-A7AF-2F0773565338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E70D128-9A3F-40F3-9A77-9DBB51F5F35E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ABEA6AC-78B8-4E5F-BF5E-788D1CE4B23F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EE2FE51-47B3-4CDC-A9CB-116B0AB1DB78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E84D19F-FD54-432E-8376-AD11857F3F35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042F36A-935D-424A-9A61-798DCF785221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9244F3C-51B7-472E-A4F7-F0FD4E4C729B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0CD95B2-FD5C-4851-A3FC-DA5C012023B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AE2F3-602B-413C-A11D-535D8B33505E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45E4E3F-6F2B-43EB-8854-565732C67646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846BA9C-AE07-4E1C-AD3D-8F387C1EF4BF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29897C8-D601-40A5-9B90-31BAC28EEA87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53FCA63-A4B9-4CB5-B96F-3F1C5E067CE8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82B7581-0660-434E-94AD-5B88749FF5C8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384CC77-CA6B-4976-B9A0-68D306546635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C0187D2-51A0-48A6-BDA9-F71B81B3BBE4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E1661D6-E3EE-4754-B0A6-101C42AEC1EA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0C7F78C-BAA9-4874-83FF-99927B7BED90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6DFF4D0-98F7-4583-85B1-307F99E6834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B08D-DF9A-474E-B85A-D50DEA55A43F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CC788E9-6BDF-4709-88CF-26A60932B6F8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AA49B02-F83D-4231-8D0C-11FC81FAA9A2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8A51B7C-AC1B-42B1-B39D-B84B90802039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ABC0EED-5D4F-4F88-9977-D9B916570567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C3E9DA9-1215-4F40-B9B3-C88CCA82BF62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645C4E-CF7E-474B-90DC-872B00E619C8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16E63F-06BC-4E47-A925-29D0795B94A2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215E3D-9526-4814-8538-E09E635E024A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9E3474-FC52-40C8-BBD7-9921E6494CAA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5D778E-639F-48D4-990A-C14C320118B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221A5-3FE3-4A59-B703-1299A7B9F1D4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7BE53D-F0C7-4E83-8364-D0CD765C5E7A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90957D-AD89-4830-AEE9-5EE5A99EDA47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5DDC35-A111-4126-A8C8-231EAE860C2C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0C6CC3-0661-4D6D-AF28-DE479FF5881B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DA9EAD-0302-4E0B-BF51-0ED021FADCD8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042E52-4917-498C-9917-3ED6C1037929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D744E2-01EB-411D-A8B4-D22D403C4FC0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B2D03F6-D09B-4A0D-92A4-8F6F8F2130DD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4B9E9A9-5102-417E-98E0-095CFAD39085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F817331-40F9-4274-A2EE-869235322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1FE378-E136-4C5D-AFD8-97E21C17567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C5FE65-4209-4FE1-996B-6E52EF198CF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 type="sldNum" idx="10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88E933-29DD-46B9-B12D-A99608BF2CC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 type="sldNum" idx="10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B6D881-AB66-4169-8FDE-B59752A8E43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 type="sldNum" idx="10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002607-E61A-44A8-988C-F46A19589E4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 type="sldNum" idx="10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745743-DACE-4189-969E-568A9DFD8D2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 type="sldNum" idx="10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6396F1-1C8C-4CB5-82C6-FAD7A325CFF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 type="sldNum" idx="10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180484-033A-4048-A942-C38BCB6E0A4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 type="sldNum" idx="10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472B99-CB2A-4F13-9EC9-4ADF2DBAA10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 type="sldNum" idx="10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FBF758-56AE-4FE5-9C9A-5C582CED749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 type="sldNum" idx="10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5A6A47-215F-4485-8AAE-19C518C2F57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 type="sldNum" idx="1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D53440-779C-4613-989E-E96B845B545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A260B5-FDA7-4478-BF06-E1A33603AB9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3"/>
          <p:cNvSpPr>
            <a:spLocks noGrp="1"/>
          </p:cNvSpPr>
          <p:nvPr>
            <p:ph type="sldNum" idx="1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934059-BE23-4AF8-AF26-57AB79D2D19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3"/>
          <p:cNvSpPr>
            <a:spLocks noGrp="1"/>
          </p:cNvSpPr>
          <p:nvPr>
            <p:ph type="sldNum" idx="1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9381EC-F57E-46E8-BC1B-4F8D6E03CDD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 type="sldNum" idx="11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67925F-FB06-4ECF-A708-5D259019924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3"/>
          <p:cNvSpPr>
            <a:spLocks noGrp="1"/>
          </p:cNvSpPr>
          <p:nvPr>
            <p:ph type="sldNum" idx="11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84C446-70F3-4495-B257-1382BBDB6C8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3"/>
          <p:cNvSpPr>
            <a:spLocks noGrp="1"/>
          </p:cNvSpPr>
          <p:nvPr>
            <p:ph type="sldNum" idx="1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31D5F4-90EF-4DD5-8926-F50AC12DB4E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 type="sldNum" idx="1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75A32C-2ED3-4C8E-8C85-FC1DB411AC1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3"/>
          <p:cNvSpPr>
            <a:spLocks noGrp="1"/>
          </p:cNvSpPr>
          <p:nvPr>
            <p:ph type="sldNum" idx="1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E79B8C-5F88-4B0C-B228-8A6D91FB5F3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3"/>
          <p:cNvSpPr>
            <a:spLocks noGrp="1"/>
          </p:cNvSpPr>
          <p:nvPr>
            <p:ph type="sldNum" idx="1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A38351-D3F3-4E99-BECC-2DD85178779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3"/>
          <p:cNvSpPr>
            <a:spLocks noGrp="1"/>
          </p:cNvSpPr>
          <p:nvPr>
            <p:ph type="sldNum" idx="1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3264B1-7A00-4E35-A47B-5C62502504C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 type="sldNum" idx="1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FC6731-1B58-492C-AC22-DB0DF1FD10A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9999E7-A3D1-47EF-9840-FC3986AAF20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3"/>
          <p:cNvSpPr>
            <a:spLocks noGrp="1"/>
          </p:cNvSpPr>
          <p:nvPr>
            <p:ph type="sldNum" idx="1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608679-DEA8-46FF-9BFA-365EB57DB2C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3"/>
          <p:cNvSpPr>
            <a:spLocks noGrp="1"/>
          </p:cNvSpPr>
          <p:nvPr>
            <p:ph type="sldNum" idx="1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26D332-D1F4-4277-8361-421907B4A55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3"/>
          <p:cNvSpPr>
            <a:spLocks noGrp="1"/>
          </p:cNvSpPr>
          <p:nvPr>
            <p:ph type="sldNum" idx="1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03FF37-AF83-4C93-9BCF-880515EFD8C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3"/>
          <p:cNvSpPr>
            <a:spLocks noGrp="1"/>
          </p:cNvSpPr>
          <p:nvPr>
            <p:ph type="sldNum" idx="1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AB4C2B-3438-4C81-A579-7A7CDBF3BDF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3"/>
          <p:cNvSpPr>
            <a:spLocks noGrp="1"/>
          </p:cNvSpPr>
          <p:nvPr>
            <p:ph type="sldNum" idx="1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A7C0BB-072E-4A97-B4B0-97B5A209435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 type="sldNum" idx="1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41F17F-4E6A-4638-A093-8AFAD61CC88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3"/>
          <p:cNvSpPr>
            <a:spLocks noGrp="1"/>
          </p:cNvSpPr>
          <p:nvPr>
            <p:ph type="sldNum" idx="1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E392B2-542C-4BFF-9E82-D365084EBA4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3"/>
          <p:cNvSpPr>
            <a:spLocks noGrp="1"/>
          </p:cNvSpPr>
          <p:nvPr>
            <p:ph type="sldNum" idx="1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D3B76C-B8FA-4271-956E-471895859C1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3"/>
          <p:cNvSpPr>
            <a:spLocks noGrp="1"/>
          </p:cNvSpPr>
          <p:nvPr>
            <p:ph type="sldNum" idx="1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293331-53F9-4FE4-BF27-4ABD2DA7162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3"/>
          <p:cNvSpPr>
            <a:spLocks noGrp="1"/>
          </p:cNvSpPr>
          <p:nvPr>
            <p:ph type="sldNum" idx="1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CDF252-A343-498B-9932-46C67895CE4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6DD60B-FE92-4F0E-8B47-23EAE80D8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3"/>
          <p:cNvSpPr>
            <a:spLocks noGrp="1"/>
          </p:cNvSpPr>
          <p:nvPr>
            <p:ph type="sldNum" idx="1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EFEF8A-6AC1-49C5-9CA9-399F39D17CC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3"/>
          <p:cNvSpPr>
            <a:spLocks noGrp="1"/>
          </p:cNvSpPr>
          <p:nvPr>
            <p:ph type="sldNum" idx="1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C1E684-4CC8-4C17-BF72-257D769F1D9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3"/>
          <p:cNvSpPr>
            <a:spLocks noGrp="1"/>
          </p:cNvSpPr>
          <p:nvPr>
            <p:ph type="sldNum" idx="1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978646-6E47-4C17-B073-935AFB3379F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3"/>
          <p:cNvSpPr>
            <a:spLocks noGrp="1"/>
          </p:cNvSpPr>
          <p:nvPr>
            <p:ph type="sldNum" idx="1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AE849E-E3DA-4C06-82E7-6EDAD07F524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3"/>
          <p:cNvSpPr>
            <a:spLocks noGrp="1"/>
          </p:cNvSpPr>
          <p:nvPr>
            <p:ph type="sldNum" idx="1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23BD9E-BA8E-463F-956C-D95E8994E6F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3"/>
          <p:cNvSpPr>
            <a:spLocks noGrp="1"/>
          </p:cNvSpPr>
          <p:nvPr>
            <p:ph type="sldNum" idx="1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A9CEC0-3768-49A5-BDEF-8F1015B5066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3"/>
          <p:cNvSpPr>
            <a:spLocks noGrp="1"/>
          </p:cNvSpPr>
          <p:nvPr>
            <p:ph type="sldNum" idx="1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288FFB-077F-44EE-A63D-64264F46831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3"/>
          <p:cNvSpPr>
            <a:spLocks noGrp="1"/>
          </p:cNvSpPr>
          <p:nvPr>
            <p:ph type="sldNum" idx="1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F47C66-5F1A-4BBA-AE11-472412F001C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3"/>
          <p:cNvSpPr>
            <a:spLocks noGrp="1"/>
          </p:cNvSpPr>
          <p:nvPr>
            <p:ph type="sldNum" idx="1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4718B6-3EA9-481B-AAC8-D2722E2A323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 type="sldNum" idx="1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4CB8A6-82BC-4BB7-92AE-4B10C3DCC48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482E47-FEDF-4728-A442-00EB46F3C8A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3"/>
          <p:cNvSpPr>
            <a:spLocks noGrp="1"/>
          </p:cNvSpPr>
          <p:nvPr>
            <p:ph type="sldNum" idx="1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4B6E2A-A7CB-44C6-9089-E5A2ADBA4E3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3"/>
          <p:cNvSpPr>
            <a:spLocks noGrp="1"/>
          </p:cNvSpPr>
          <p:nvPr>
            <p:ph type="sldNum" idx="1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018FC0-634A-47D1-AA06-83A7F8D3DFC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3"/>
          <p:cNvSpPr>
            <a:spLocks noGrp="1"/>
          </p:cNvSpPr>
          <p:nvPr>
            <p:ph type="sldNum" idx="1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33288E-A395-4808-B767-91EE54C3DD4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3"/>
          <p:cNvSpPr>
            <a:spLocks noGrp="1"/>
          </p:cNvSpPr>
          <p:nvPr>
            <p:ph type="sldNum" idx="1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62E1C4-5492-40E9-876D-BA11CECD8AD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3"/>
          <p:cNvSpPr>
            <a:spLocks noGrp="1"/>
          </p:cNvSpPr>
          <p:nvPr>
            <p:ph type="sldNum" idx="1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093822-AA03-4BBA-AAF4-77CD16BE9D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3"/>
          <p:cNvSpPr>
            <a:spLocks noGrp="1"/>
          </p:cNvSpPr>
          <p:nvPr>
            <p:ph type="sldNum" idx="1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B3B3FE-DADB-43CE-8B09-6586472FFD8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PlaceHolder 3"/>
          <p:cNvSpPr>
            <a:spLocks noGrp="1"/>
          </p:cNvSpPr>
          <p:nvPr>
            <p:ph type="dt" idx="14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PlaceHolder 4"/>
          <p:cNvSpPr>
            <a:spLocks noGrp="1"/>
          </p:cNvSpPr>
          <p:nvPr>
            <p:ph type="sldNum" idx="14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ACDC5D-E4BF-42EC-8B1E-8E5B0FAAE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PlaceHolder 3"/>
          <p:cNvSpPr>
            <a:spLocks noGrp="1"/>
          </p:cNvSpPr>
          <p:nvPr>
            <p:ph type="dt" idx="14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PlaceHolder 4"/>
          <p:cNvSpPr>
            <a:spLocks noGrp="1"/>
          </p:cNvSpPr>
          <p:nvPr>
            <p:ph type="sldNum" idx="15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545B31-E674-4D78-8AB6-F50100073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6" name="PlaceHolder 3"/>
          <p:cNvSpPr>
            <a:spLocks noGrp="1"/>
          </p:cNvSpPr>
          <p:nvPr>
            <p:ph type="dt" idx="15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7" name="PlaceHolder 4"/>
          <p:cNvSpPr>
            <a:spLocks noGrp="1"/>
          </p:cNvSpPr>
          <p:nvPr>
            <p:ph type="sldNum" idx="15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592634-9084-462C-9D56-A84464680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PlaceHolder 3"/>
          <p:cNvSpPr>
            <a:spLocks noGrp="1"/>
          </p:cNvSpPr>
          <p:nvPr>
            <p:ph type="dt" idx="15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PlaceHolder 4"/>
          <p:cNvSpPr>
            <a:spLocks noGrp="1"/>
          </p:cNvSpPr>
          <p:nvPr>
            <p:ph type="sldNum" idx="15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E5B763-1796-48B0-A0A8-682779C3A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A603E5-A4E2-4537-BD83-78CCE1797CC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PlaceHolder 3"/>
          <p:cNvSpPr>
            <a:spLocks noGrp="1"/>
          </p:cNvSpPr>
          <p:nvPr>
            <p:ph type="dt" idx="15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PlaceHolder 4"/>
          <p:cNvSpPr>
            <a:spLocks noGrp="1"/>
          </p:cNvSpPr>
          <p:nvPr>
            <p:ph type="sldNum" idx="15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95150E-3F11-43F9-995E-B3F3785E5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PlaceHolder 3"/>
          <p:cNvSpPr>
            <a:spLocks noGrp="1"/>
          </p:cNvSpPr>
          <p:nvPr>
            <p:ph type="dt" idx="15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PlaceHolder 4"/>
          <p:cNvSpPr>
            <a:spLocks noGrp="1"/>
          </p:cNvSpPr>
          <p:nvPr>
            <p:ph type="sldNum" idx="15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0E4E7B-E64F-480B-A620-13BE94353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 type="dt" idx="15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 type="sldNum" idx="16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E5FCDD-95E1-418A-9EFD-BACCBB384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6" name="PlaceHolder 3"/>
          <p:cNvSpPr>
            <a:spLocks noGrp="1"/>
          </p:cNvSpPr>
          <p:nvPr>
            <p:ph type="dt" idx="16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7" name="PlaceHolder 4"/>
          <p:cNvSpPr>
            <a:spLocks noGrp="1"/>
          </p:cNvSpPr>
          <p:nvPr>
            <p:ph type="sldNum" idx="16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DD99C1-F296-4F0E-9B4C-75C687315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PlaceHolder 3"/>
          <p:cNvSpPr>
            <a:spLocks noGrp="1"/>
          </p:cNvSpPr>
          <p:nvPr>
            <p:ph type="dt" idx="16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PlaceHolder 4"/>
          <p:cNvSpPr>
            <a:spLocks noGrp="1"/>
          </p:cNvSpPr>
          <p:nvPr>
            <p:ph type="sldNum" idx="16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BEF08A-FA7D-4393-87EA-4A0A95A37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PlaceHolder 3"/>
          <p:cNvSpPr>
            <a:spLocks noGrp="1"/>
          </p:cNvSpPr>
          <p:nvPr>
            <p:ph type="dt" idx="16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PlaceHolder 4"/>
          <p:cNvSpPr>
            <a:spLocks noGrp="1"/>
          </p:cNvSpPr>
          <p:nvPr>
            <p:ph type="sldNum" idx="16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C9E073-48D9-4255-9B4B-C89E6D2ED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PlaceHolder 3"/>
          <p:cNvSpPr>
            <a:spLocks noGrp="1"/>
          </p:cNvSpPr>
          <p:nvPr>
            <p:ph type="dt" idx="16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PlaceHolder 4"/>
          <p:cNvSpPr>
            <a:spLocks noGrp="1"/>
          </p:cNvSpPr>
          <p:nvPr>
            <p:ph type="sldNum" idx="16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F64544-22CA-4C02-BC6A-EEFA9BD58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025AA3-4C04-4D4C-95F6-1BC68046680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961D70-CCF6-4D21-84DF-1BE0F18DE50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14F00E-3636-4D83-81E2-9F58262B021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60B400-4119-47E3-94AA-9B2F95C9AB1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DD7743-CFF1-415C-8658-2A22B685F11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1624A5-B7B6-4CF1-AF86-1208DCD6148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9218AE-8E7F-4BF4-B3A1-19DCA47B14E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3C0BFC-860B-4983-B99A-B9B12BC52DE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13230D-C67A-4947-B94E-D6005EE8AF9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4F97B3-8222-471F-97A4-FF641CEDEF1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EDA9F3-8519-43EF-AE16-2F159EE6521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1223ED-1DB3-4C69-801F-820403F4CFA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B5CC2E-181B-4454-B02D-2821B9277C1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7C6AE9-8302-451E-9FC7-735B34494DF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EB00E6-16FB-40FE-BAC0-CD8CA0DF90B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56CA95-A933-4042-ABBB-D2F577BA11D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23DD23-D377-4498-9F8F-D72763146BD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993E6B-C79C-4F67-AD5C-DFD14D62C23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5486D5-D0A6-456E-8509-9090B6BA748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43330A-1B40-4B2B-8011-9122557401D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FAA56D-5AC5-4B28-9921-EFABE2997AB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B22B8E-E27C-4324-A3F7-D68ED8373C0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7C9691-D256-4D03-A27A-0C29940C345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F1FF38-37AB-44F5-A5D8-E766C233290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550274-058B-41B0-A81F-8A410533CD6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C0BAED-AE1D-42AA-9C4F-82C7A6E744A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887321-4F80-40E9-BAD3-937E5C1113A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8034E7-F180-417B-892A-DD4CE073E13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8BA896-4AB5-4148-8477-031EDF115FD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927619-AE35-4BAE-9CA2-819B8D5BAD9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033755-A8BB-4E7B-A12A-4885E74B35E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E15BFB-A8FF-487D-BAFD-20B943AE9BD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1D0ADE-DA31-4E50-9EDD-334A65393CA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7EE364-F8A1-40A8-B2EF-69855870718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919D20-2CAA-418E-83B4-AED5AF3A107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196EF2-72F2-4381-B70D-BBBF3E68D22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E362BB-B125-491D-A130-3E44FBB95C1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90DC3B-B693-4B08-AF7F-C1592F6E624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8770EA-7FBE-4229-BDCF-69A72E9E7CC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 type="sldNum" idx="5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F93266-7D75-4A6B-AAF7-3C278645E3F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04CAA6-9091-4D32-91D6-6C8E18D5D43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80FAF9-511A-4EB6-BFEA-2FAD2BE51A9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sldNum" idx="5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EC7CB0-73A0-4222-B018-FA1A4D2330E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6A5D8A-F2BE-43C5-AA9A-688803281EE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984144-E16A-4EBD-9D8D-C2C77E79222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 type="sldNum" idx="5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10E897-1764-4D53-88D1-5AAD58CD1A4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27ABF4-9607-4637-9949-1040C5F3544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8CB556-E57D-4880-9F52-3FC47AD429F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AFAD3C-7ED1-49F4-A9FA-040B85C7119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 type="sldNum" idx="6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C7F15E-8B01-4C97-9707-848B727DEEE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69A1AC-D9B6-44E9-976A-2A30FECE7D5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82F616-9106-4A70-AA83-30CF4D5488E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 type="sldNum" idx="6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69F1D5-DE64-41C6-A83F-E2198C62879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282897-87B6-456E-9630-047F33E4907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07BA66-056D-450D-ABAA-4093BC3935D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 type="sldNum" idx="6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C59A0A-C23B-4716-98F3-DD1762FE27D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7EA0F1-EC5C-49D7-B7D7-6DD68C68434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86E358-4CA8-4608-8D3C-EAEC945B808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 type="sldNum" idx="7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EEB7DA-8D8C-435C-ACAE-72119CA54B4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E90B1B-E335-443B-AF76-9BCC16C265E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53293A-DEFE-4635-9285-C970C9CE4F6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2C82A8-D9A3-4451-8154-3E2B0E6AA27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 type="sldNum" idx="7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293C87-7DD3-492F-A639-119CD93D4FC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AAEFD8-0013-4956-ABAE-9D58E8DF1A3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 type="sldNum" idx="7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BE97A1-385C-42AE-B105-97222C57017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 type="sldNum" idx="7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8AB82F-7AEC-40F3-A8B7-7778B0C3E85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951DA0-85CA-4671-AC2B-E0CD952A143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53E9B8-724A-4482-88BB-BC299691322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 type="sldNum" idx="7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32FBB7-B6D7-4791-8F1A-C563FDE8532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 type="sldNum" idx="8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FBBA4C-402B-47BB-B916-962A68B60F4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6648D2-72B1-432D-AD09-28925ABA1EA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 type="sldNum" idx="8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E705EA-3237-43D0-80F9-84BF6D46A96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sldNum" idx="8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D366B1-4224-4F52-87C9-B4D62F132FB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 type="sldNum" idx="8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88AFFA-F00A-4F25-AD46-782C2B04CE5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73E0F3-5A53-4A8F-8531-05E5C527769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3"/>
          <p:cNvSpPr>
            <a:spLocks noGrp="1"/>
          </p:cNvSpPr>
          <p:nvPr>
            <p:ph type="sldNum" idx="8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F03812-EEF8-4D40-AC92-7F1F79679F9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 type="sldNum" idx="8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9E648F-C5D4-4091-A7E2-2678AFE5252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 type="sldNum" idx="8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C5E7F7-D4E0-471D-BF8A-DD968467094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3"/>
          <p:cNvSpPr>
            <a:spLocks noGrp="1"/>
          </p:cNvSpPr>
          <p:nvPr>
            <p:ph type="sldNum" idx="8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8B38E4-E330-45C8-B40F-D2C44B7C1AD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sldNum" idx="8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280AAF-9590-4553-BCCF-FFC1C34A203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 type="sldNum" idx="9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5D7424-C087-4491-8750-D6AF75C8A9E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6B8259-2DC0-4119-B0EE-0366E27DE35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3"/>
          <p:cNvSpPr>
            <a:spLocks noGrp="1"/>
          </p:cNvSpPr>
          <p:nvPr>
            <p:ph type="sldNum" idx="9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5761E4-1785-4FC6-91C9-D1C0B9D030F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 type="sldNum" idx="9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3EB654-7CEE-4BA8-9429-628C9A62B17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sldNum" idx="9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B803D8-FF7E-4B40-8AB9-F419A7F9C0C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3"/>
          <p:cNvSpPr>
            <a:spLocks noGrp="1"/>
          </p:cNvSpPr>
          <p:nvPr>
            <p:ph type="sldNum" idx="9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E4C819-A94D-4238-A88E-CA991B53B0D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3"/>
          <p:cNvSpPr>
            <a:spLocks noGrp="1"/>
          </p:cNvSpPr>
          <p:nvPr>
            <p:ph type="sldNum" idx="9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F9D284-B411-4C28-A7C5-929C8E1EAB2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3"/>
          <p:cNvSpPr>
            <a:spLocks noGrp="1"/>
          </p:cNvSpPr>
          <p:nvPr>
            <p:ph type="sldNum" idx="9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8BD4FC-A25D-40A2-878C-82A0284AF0B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 type="sldNum" idx="9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7AA6EB-B088-42AD-B30F-E80DDB0DA3E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 type="sldNum" idx="9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3977E7-87B7-43BD-BD12-1CD6EC49726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 type="sldNum" idx="9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937628-17A1-407E-B3ED-DB08D80A7EC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3"/>
          <p:cNvSpPr>
            <a:spLocks noGrp="1"/>
          </p:cNvSpPr>
          <p:nvPr>
            <p:ph type="sldNum" idx="10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0A88EF-DA4E-4CC4-A475-7F8A0DF6E18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5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5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3" name="Rectangle 1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4" name="Rectangle 2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5" name="Rectangle 3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6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6397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6398" name="Picture 6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6399" name="Picture 7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6400" name="Picture 8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Rectangle 1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475" name="Picture 3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76" name="Picture 4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477" name="Rectangle 5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8" name="Rectangle 6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Text Box 1"/>
          <p:cNvSpPr/>
          <p:nvPr/>
        </p:nvSpPr>
        <p:spPr>
          <a:xfrm>
            <a:off x="324000" y="1413000"/>
            <a:ext cx="8569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ΕΝΟΤΗΤΑ 5</a:t>
            </a:r>
            <a:r>
              <a:rPr b="1" lang="el-GR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Η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εσμικό Πλαίσιο Συνδιδασκαλία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Μοντέλα Ένταξη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ροβλήματα και προϋποθέσ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Σχολικής Ένταξη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Σχολικής Ένταξη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ΕΙΣΗΓΗΤΗΣ: Γούπος Θεόδωρος,  δρ. Παιδαγωγικών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0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0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0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8" name="Rectangle 8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0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Text Box 1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3.Θεσμικό Πλαίσιο Συνδιδασκαλίας-Θεωρητικές Προσεγγίσεις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1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1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7" name="Rectangle 8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9" name="Text Box 1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4.Μοντέλα Σχολικής Ένταξ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2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6" name="Rectangle 8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8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5.Η Σχολική Κουλτούρ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3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3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O ρόλος του Εκπαιδευτικού Προσωπικ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3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4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4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4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7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ων γονέων και κηδεμόν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4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4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3" name="Rectangle 8"/>
          <p:cNvSpPr/>
          <p:nvPr/>
        </p:nvSpPr>
        <p:spPr>
          <a:xfrm>
            <a:off x="1042920" y="20620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8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ου ψυχολόγ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5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5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6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4" name="Text Box 1"/>
          <p:cNvSpPr/>
          <p:nvPr/>
        </p:nvSpPr>
        <p:spPr>
          <a:xfrm>
            <a:off x="863640" y="134136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9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ξωσχολικέ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οινωνικές Δραστηριότητε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6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6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5-10-16T10:30:43Z</dcterms:modified>
  <cp:revision>1</cp:revision>
  <dc:subject/>
  <dc:title/>
</cp:coreProperties>
</file>